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A33-F3F5-424B-A23B-0115C439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241-B909-44DC-832C-68331ED4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E396-08B8-4BFA-BFD6-129BB4C3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6A4-5E3A-4D18-800F-2465C4F5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DC47-A589-4448-B45D-A4C9943E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78B0-00A8-46EE-A9BA-C4E20781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0F1F-12B9-4CB6-929D-80B350B5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E81C-0A65-4CE1-AC6D-0B407B2C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1AFD-12F0-4D5F-B8A8-6B370B6E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B1AD-D90E-4FDC-BFC0-D95B94C8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2E9B-1615-44B8-A310-977F37A8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5696-7808-4F17-B8DB-7DA035AB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B287-BD9E-4B09-AD67-DBA3D02A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4D9B-2E56-44FF-8275-D51EB562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78A8-9F0C-417C-9A08-78A9E9D0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9C40-1D04-4A63-9DE9-3B7B2CEA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539E-1A8E-45F2-B376-4303D7C9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4C0A9-1A05-43B3-9837-ED5CE290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473EB-2EB3-4F1B-8B62-4B20B2DF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7A6D5-09E0-4F2A-838F-1A9E2744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0D052-A6F5-4E65-B2F1-DF8DDD72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FFFC9-8D89-4026-AE2F-12A8A410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083D-A223-460C-A2BF-2AE62F0B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30385-ADB3-4CF3-899B-EE9983C1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EA69A-6153-4B3B-ACA6-08123E5F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602A6-C836-4B40-81DD-AFE6E2ED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C3257-DE86-4870-BA37-ECA9074E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E7D0B-3008-4098-8C2C-6726297C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C6CB1-E9A7-4641-9A63-D85C410E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74F33-B236-48FB-B20D-2A3B42C3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20586-5796-4E04-84BB-6A756EBC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CFCBA-99FF-4C76-8276-933F222B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CD7DF-4952-44C6-8A72-7CAA1E6F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8A8F-9462-4C99-AA12-31F6E65B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42389-51C3-4EFE-89A9-078EBCA6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186FD-4BCA-4892-B2B6-A6ED931D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FED99-F94D-4002-9F96-EC0F7762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D1167-5BB2-46A5-BC19-E30C0827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AD2FD-5CE3-4598-BEBF-11B3E0F3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C3A74-429B-4A34-8AA4-5E7A93B5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A7148-32BF-41CF-8506-85495493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57836-3ACF-4AD0-B52D-0544C766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1E721-2324-4BC4-BA89-4AF9007F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FFB55-58E8-47A1-A2B8-33510C5D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141-ABF5-49E8-A02B-70028CFD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58095-D702-425A-99F2-F280F15A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996B3-0627-47E1-BC83-FFB9A3A0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681F4-3151-418D-BC5A-27F2B8F0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2747C-9824-4A94-983F-BEC2B6F5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8EB9E-3ABA-4149-A2F2-C11BBD13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B0C24-8A97-43AB-9853-130E5D9E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E0051-BADA-46C0-B9BF-C3093173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548D0-D542-4B5E-9DDF-A69690E4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C2B97-FA81-4D04-BC8E-93D9E016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D3125-5A2E-4968-B9E7-62722F86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714C-AAD1-46BB-96E6-EEA6981D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C44D6-2F5D-4100-8F2F-C4B14C26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8AC-C4F3-4DCE-B388-E5A321ED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484-DBD1-47C6-946D-0830E792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D501-B563-4C17-9ED4-045E4252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kutnik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ravokutnik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8CAC-1D41-4AFC-B413-782C4C578BA7}" type="datetime"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7D84-A6B0-4C0E-BFD9-2B8AA791F00D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avni poveznik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Jednakokračni trokut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4F7C-1699-4120-9E14-BB3AEA12D0FF}" type="datetime"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6E4B-845A-4C3E-B857-6C613F89C41A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avni poveznik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avni poveznik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Jednakokračni trokut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5CCC-461C-4E09-9D37-CCC4AEAB95E9}" type="datetime"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1A8D-8220-4164-84AE-2839C39180AB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avni poveznik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Jednakokračni trokut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ravokutnik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F26B-55B8-40B1-90FF-25EB1757E62D}" type="datetime"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C02E-BE2F-46E0-9564-422F8631D294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avni poveznik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Jednakokračni trokut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avni poveznik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1948-992D-4DC5-BF84-8DF9AE5580CA}" type="datetime"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6105-8CA5-4632-A407-35B3A209C70E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zervirano mjesto broja slajda 1"/>
          <p:cNvSpPr/>
          <p:nvPr/>
        </p:nvSpPr>
        <p:spPr>
          <a:xfrm>
            <a:off x="1154160" y="648828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1F07-D9D3-497F-B44E-294FF10AE6E6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0" y="208080"/>
          <a:ext cx="9144000" cy="6489720"/>
        </p:xfrm>
        <a:graphic>
          <a:graphicData uri="http://schemas.openxmlformats.org/drawingml/2006/table">
            <a:tbl>
              <a:tblPr/>
              <a:tblGrid>
                <a:gridCol w="1382760"/>
                <a:gridCol w="1249200"/>
                <a:gridCol w="1382760"/>
                <a:gridCol w="1373400"/>
                <a:gridCol w="1087200"/>
                <a:gridCol w="1332000"/>
                <a:gridCol w="1336680"/>
              </a:tblGrid>
              <a:tr h="180720">
                <a:tc grid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USPOREDBA NETO PLAĆA – prosječni  osobni odbitak 1,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 gridSpan="7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kupno - zaposlenici i obrtnici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01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RED. BR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MJESEČNI RAZREDI BRUTO PLAĆ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NETO PLAĆ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NETO  PLAĆA            </a:t>
                      </a: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SADA </a:t>
                      </a:r>
                      <a:r>
                        <a:rPr b="1" i="1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                                                      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NETO  PLAĆA  </a:t>
                      </a: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PRIJEDLOG</a:t>
                      </a:r>
                      <a:r>
                        <a:rPr b="1" i="1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RAZLIKA                                       (4-3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Broj         obveznika</a:t>
                      </a:r>
                      <a:br>
                        <a:rPr sz="1100"/>
                      </a:br>
                      <a:r>
                        <a:rPr b="1" i="1" lang="pl-PL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(zaposlenici i obrtnic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Ukupni iznos razlike                                (5x6)*12 mjesec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2.0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.6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.6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.2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3.0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2.4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2.4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.23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3.125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2.5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2.5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4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4.0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3.132,8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3.2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67,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1.85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70.835.920,4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5.0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3.825,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3.905,9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80,6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.74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207.807.194,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6.0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4.517,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4.598,4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80,6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3.88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68.261.548,5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7.0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5.210,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5.276,3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66,0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.94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12.556.488,2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7.5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5.556,4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5.564,3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7,8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6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5.804.660,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728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8.0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5.888,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5.852,3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ff0000"/>
                          </a:solidFill>
                          <a:latin typeface="Times New Roman CE"/>
                        </a:rPr>
                        <a:t>-35,8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56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-23.897.794,7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9.0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6.464,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6.428,3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ff0000"/>
                          </a:solidFill>
                          <a:latin typeface="Times New Roman CE"/>
                        </a:rPr>
                        <a:t>-35,8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.5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-46.678.031,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0.0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7.040,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7.004,3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ff0000"/>
                          </a:solidFill>
                          <a:latin typeface="Times New Roman CE"/>
                        </a:rPr>
                        <a:t>-35,8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.19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-31.478.285,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2.0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8.192,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8.156,3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ff0000"/>
                          </a:solidFill>
                          <a:latin typeface="Times New Roman CE"/>
                        </a:rPr>
                        <a:t>-35,8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.52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-36.351.032,9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4.0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9.344,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9.308,3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ff0000"/>
                          </a:solidFill>
                          <a:latin typeface="Times New Roman CE"/>
                        </a:rPr>
                        <a:t>-35,8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.9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-18.887.936,0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6.0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0.496,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0.342,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ff0000"/>
                          </a:solidFill>
                          <a:latin typeface="Times New Roman CE"/>
                        </a:rPr>
                        <a:t>-153,4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.88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-49.493.918,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7.5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1.276,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1.005,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ff0000"/>
                          </a:solidFill>
                          <a:latin typeface="Times New Roman CE"/>
                        </a:rPr>
                        <a:t>-271,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3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-40.086.004,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8.0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1.496,9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1.225,9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ff0000"/>
                          </a:solidFill>
                          <a:latin typeface="Times New Roman CE"/>
                        </a:rPr>
                        <a:t>-271,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6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-9.638.827,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 gridSpan="4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K U P N O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.645.25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238.427.903,6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A D 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jedlog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. Odbita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00,00 k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s. Odbita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200,00 k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k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00,00 k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1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k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00,00 k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00,00 k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00,00 k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2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00,00 k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00,00 k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00,00 k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.999,00 k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4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00,00 k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.999,00 k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ječni prirez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0" name="Zaobljeni pravokutni oblačić 3"/>
          <p:cNvSpPr/>
          <p:nvPr/>
        </p:nvSpPr>
        <p:spPr>
          <a:xfrm>
            <a:off x="7756560" y="345960"/>
            <a:ext cx="914400" cy="612720"/>
          </a:xfrm>
          <a:prstGeom prst="wedgeRoundRectCallout">
            <a:avLst>
              <a:gd name="adj1" fmla="val -484722"/>
              <a:gd name="adj2" fmla="val 477203"/>
              <a:gd name="adj3" fmla="val 16667"/>
            </a:avLst>
          </a:prstGeom>
          <a:solidFill>
            <a:srgbClr val="d9d9d9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ffffff"/>
                </a:solidFill>
                <a:latin typeface="Gill Sans MT"/>
              </a:rPr>
              <a:t>Prosječna plać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Elipsasti oblačić 4"/>
          <p:cNvSpPr/>
          <p:nvPr/>
        </p:nvSpPr>
        <p:spPr>
          <a:xfrm>
            <a:off x="8485200" y="5346720"/>
            <a:ext cx="1200240" cy="612720"/>
          </a:xfrm>
          <a:prstGeom prst="wedgeEllipseCallout">
            <a:avLst>
              <a:gd name="adj1" fmla="val -98148"/>
              <a:gd name="adj2" fmla="val -73833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ffffff"/>
                </a:solidFill>
                <a:latin typeface="Gill Sans MT"/>
              </a:rPr>
              <a:t>Manji prihod od porez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21:51:58Z</dcterms:created>
  <dc:creator>josip.lozancic</dc:creator>
  <dc:description/>
  <dc:language>en-US</dc:language>
  <cp:lastModifiedBy>Vesna Lončar</cp:lastModifiedBy>
  <dcterms:modified xsi:type="dcterms:W3CDTF">2012-01-26T10:37:52Z</dcterms:modified>
  <cp:revision>47</cp:revision>
  <dc:subject/>
  <dc:title>Izmjene u poreznim propisima</dc:title>
</cp:coreProperties>
</file>