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ra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23AA-E8A5-43EA-9119-CBAD481632B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zervirano mjesto zaglavlj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ra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zervirano mjesto broja slajd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56E-EE30-4CA3-9E9F-0B396A590B1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25D6-F88C-4A2E-8594-BD15E0FDB49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zervirano mjesto zaglavlj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ra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22B-E9A4-4FEC-A224-A2EAA0A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419-E289-41CD-A5B8-892BA699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4A3-155E-412A-B335-522628C8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AA4-1C1C-4C5E-BC40-9D35D392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92C-E4E1-40BE-BB8C-D1E71D0F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953-4915-420A-8403-F1B53D69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589-15DD-4838-B8F6-707BE300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E8D-8CEF-480E-B2C8-6486FE52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596-06AE-4798-93AB-07EA761C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1C8-BD5E-4F15-A73C-BA3CC92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923-5B8C-42D5-BB1D-AA6015F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1DC-E421-4DBC-A852-E866926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02C8-5B0C-4B4C-9225-38184012FA5E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tar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6700-3E2C-4948-81E8-6A86ABB6339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1700280"/>
            <a:ext cx="716436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26445c"/>
                </a:solidFill>
                <a:latin typeface="Calibri"/>
              </a:rPr>
              <a:t>Strategija razvoja turizma Republike Hrvatske do 2020. godine</a:t>
            </a:r>
            <a:br>
              <a:rPr sz="3200"/>
            </a:br>
            <a:br>
              <a:rPr sz="3200"/>
            </a:b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40000" y="5589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Ministarstvo turiz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6386400" y="31680"/>
            <a:ext cx="27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252-2E18-4C49-BF55-D3182C8D6A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Glavni razvojni cil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1763640" y="2133720"/>
            <a:ext cx="7201080" cy="31669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Calibri"/>
              </a:rPr>
              <a:t>Ulazak u vodećih 20 turističkih destinacija na svijetu po kriteriju konkurentnos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503B-3A5E-4225-B123-132C921312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Ciljevi razvoja turizma do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Diagram 2" descr=""/>
          <p:cNvPicPr/>
          <p:nvPr/>
        </p:nvPicPr>
        <p:blipFill>
          <a:blip r:embed="rId3"/>
          <a:stretch/>
        </p:blipFill>
        <p:spPr>
          <a:xfrm>
            <a:off x="1901880" y="1219320"/>
            <a:ext cx="7016760" cy="5035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605-274E-43BC-AC2C-8388369BF4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216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Operativne strateg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1560600"/>
            <a:ext cx="721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Razvoj turističke pon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Investi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Razvoj ljudskih potencij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Upravljanje proces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F41C-7075-470B-9D3C-D9566A4073C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64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1.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763640" y="1773360"/>
            <a:ext cx="738036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Novi organizacijski ustroj Glavnog ureda HTZ-a i reorganizaciju sustava TZ-a prema DMO-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ofesionalnu proceduru turističkog brand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ofesionalizacija odnosa s javnošću u turiz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elazak na online komunikaciju prema tržiš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ermanentnu edukaciju kadrova na svim raz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2007-A915-47CC-97A7-4622FB55E35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0480" y="2602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2. Razvoj turističke ponu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Diagram 4" descr=""/>
          <p:cNvPicPr/>
          <p:nvPr/>
        </p:nvPicPr>
        <p:blipFill>
          <a:blip r:embed="rId3"/>
          <a:stretch/>
        </p:blipFill>
        <p:spPr>
          <a:xfrm>
            <a:off x="2114640" y="1444680"/>
            <a:ext cx="6784920" cy="4900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FCF4-F306-427B-AA27-61FF59F98D7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34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2.1. Razvoj turističkih proizvo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692360" y="981000"/>
            <a:ext cx="7416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Sunce i more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repozicioniranje kroz jačanje svih karika lanca vrijednosti i produljenje se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Nautičk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novih 15.000 vezova, nova regulativa, fokus na ekolo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Zdravstven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tržišna specijalizacija, umrežavanje, podizanje kvalitete sm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Kulturn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dalja turistifikacija kulturnih sadržaja, interpretacijski centri, manifes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Poslovn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infrastruktura (kongresni centri), upravljanje, zrač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Golf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infrastruktura (igrališta) uz najjače destinacije, golf res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Ciklo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Eno i gastrotur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Ruralni i planinski tur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Pustolovni i sportski tur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60F0-932E-4F40-AC8D-C7880F2EE90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1197000"/>
          <a:ext cx="9144000" cy="5656320"/>
        </p:xfrm>
        <a:graphic>
          <a:graphicData uri="http://schemas.openxmlformats.org/drawingml/2006/table">
            <a:tbl>
              <a:tblPr/>
              <a:tblGrid>
                <a:gridCol w="5567400"/>
                <a:gridCol w="1979640"/>
                <a:gridCol w="1596960"/>
              </a:tblGrid>
              <a:tr h="82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Opis investi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Iznos (postojeći kapacite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Iznos (novi kapacite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Nova izgradnja hotela i resorta – 20.000 so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2.2 mld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Obnova i rekonstrukcija postojećih hotela – 15.000 s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825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Mali obiteljski hoteli i pansio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3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265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Ploveći mali hote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0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Kamp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23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7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Smještaj u kućanstvima (rekonstrukcija i podizanje kvalitet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70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Luke nautičkog turiz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77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475 mil. 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Kongresni ce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46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0-ak novih tematskih park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30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51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Ostalo (hrana/piće, zabava, trgovina, plaže, kulturni objekti,itd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,5 mld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UKUP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7 mld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0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3. Investicijska strateg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EB6B-5F42-439F-AB50-E1FE5AA91E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4"/>
          <p:cNvSpPr/>
          <p:nvPr/>
        </p:nvSpPr>
        <p:spPr>
          <a:xfrm>
            <a:off x="1908000" y="1700280"/>
            <a:ext cx="7128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ivatizacija državnih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Rješenje pitanja turističkog zemlj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Daljnje približavanje uvjeta poslovanja konkurentskim destinacij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Dalje jačanje uloge HBOR-a kao razvojne banke s poticajnim tretmanom turističkih razvojnih proj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Maksimizacija korištenja EU fon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3.1. Investicijsko okruže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3D36-FC5A-4A4B-BC4C-B68EEF81D8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4. Razvoj ljudskih potencija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692360" y="1700280"/>
            <a:ext cx="712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Jaki regionalni centri obrazovanja za turizam unutar mreže srednjih strukovn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Usklađivanje kurikuluma sukladno potrebama gospodar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Trening centri/tehničko opremanje strukovn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Uspostavljanje specijaliziranih poslovn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Uspostavljanje sustava cjeloživotnog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" descr="zgb.jpg"/>
          <p:cNvPicPr/>
          <p:nvPr/>
        </p:nvPicPr>
        <p:blipFill>
          <a:blip r:embed="rId1"/>
          <a:stretch/>
        </p:blipFill>
        <p:spPr>
          <a:xfrm>
            <a:off x="7920" y="1268280"/>
            <a:ext cx="4249800" cy="5583240"/>
          </a:xfrm>
          <a:prstGeom prst="rect">
            <a:avLst/>
          </a:prstGeom>
          <a:ln w="0">
            <a:noFill/>
          </a:ln>
        </p:spPr>
      </p:pic>
      <p:sp>
        <p:nvSpPr>
          <p:cNvPr id="186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269E-F236-4D2F-8E20-2F895B15C62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5. Upravljanje procesi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116000" y="1523880"/>
            <a:ext cx="7848720" cy="5073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a1\Desktop\JOBS\Ministarstvo turizma RH\mint-logo.png"/>
          <p:cNvPicPr/>
          <p:nvPr/>
        </p:nvPicPr>
        <p:blipFill>
          <a:blip r:embed="rId3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547640" y="1341360"/>
            <a:ext cx="6769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763640" y="2205000"/>
            <a:ext cx="5545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484360" y="404640"/>
            <a:ext cx="612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763280" y="1112400"/>
            <a:ext cx="71010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Sadašnje st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Konkurentski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Tržišne prilike za Hrvats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10 ključnih razvojnih usmjerenja hrvatskog turizma do 202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Vizija turizma RH do 202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Glavni razvojni cil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perativne strateg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Akcijski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čekivani učin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Sadrža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164360" y="4005360"/>
            <a:ext cx="1771560" cy="2581200"/>
          </a:xfrm>
          <a:prstGeom prst="rect">
            <a:avLst/>
          </a:prstGeom>
          <a:ln w="0">
            <a:noFill/>
          </a:ln>
        </p:spPr>
      </p:pic>
      <p:sp>
        <p:nvSpPr>
          <p:cNvPr id="61" name="Rezervirano mjesto broja slajda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E14E-E45B-4367-A275-8099608147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6372360" y="10332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BE5-E054-4108-860A-6540E0B508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Akcijski pla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2311560" y="64040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e visok prior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2031840" y="6404040"/>
            <a:ext cx="1828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2214720" y="6404040"/>
            <a:ext cx="13464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1243080" y="6345360"/>
            <a:ext cx="725400" cy="50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971640" y="645480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5"/>
          <a:stretch/>
        </p:blipFill>
        <p:spPr>
          <a:xfrm>
            <a:off x="1157400" y="6454800"/>
            <a:ext cx="18072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173160" y="1052640"/>
            <a:ext cx="8970840" cy="529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a1\Desktop\JOBS\Ministarstvo turizma RH\mint-logo.png"/>
          <p:cNvPicPr/>
          <p:nvPr/>
        </p:nvPicPr>
        <p:blipFill>
          <a:blip r:embed="rId7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CEB6-E5FC-4C94-82CA-D9A3E7E9F4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Akcijski pla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2311560" y="64040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e visok prior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031840" y="6404040"/>
            <a:ext cx="182880" cy="36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2214720" y="6404040"/>
            <a:ext cx="134640" cy="36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1243080" y="6345360"/>
            <a:ext cx="725400" cy="506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971640" y="645480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1157400" y="6454800"/>
            <a:ext cx="18072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6"/>
          <a:srcRect l="9930" t="26505" r="2628" b="11918"/>
          <a:stretch/>
        </p:blipFill>
        <p:spPr>
          <a:xfrm>
            <a:off x="324000" y="1039680"/>
            <a:ext cx="8835840" cy="532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a1\Desktop\JOBS\Ministarstvo turizma RH\mint-logo.png"/>
          <p:cNvPicPr/>
          <p:nvPr/>
        </p:nvPicPr>
        <p:blipFill>
          <a:blip r:embed="rId7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10A-D0FA-4E60-A0A3-3F8413AE3E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Akcijski pla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79280" y="895320"/>
            <a:ext cx="8966160" cy="52704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8"/>
          <p:cNvSpPr/>
          <p:nvPr/>
        </p:nvSpPr>
        <p:spPr>
          <a:xfrm>
            <a:off x="2311560" y="63752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445c"/>
                </a:solidFill>
                <a:latin typeface="Times New Roman"/>
                <a:ea typeface="Times New Roman"/>
              </a:rPr>
              <a:t>Srednje visok prior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2006640" y="639144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2173320" y="6381720"/>
            <a:ext cx="138240" cy="370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4"/>
          <a:stretch/>
        </p:blipFill>
        <p:spPr>
          <a:xfrm>
            <a:off x="1289160" y="6329520"/>
            <a:ext cx="725400" cy="50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5"/>
          <a:stretch/>
        </p:blipFill>
        <p:spPr>
          <a:xfrm>
            <a:off x="974880" y="640224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6"/>
          <a:stretch/>
        </p:blipFill>
        <p:spPr>
          <a:xfrm>
            <a:off x="1143000" y="6402240"/>
            <a:ext cx="181080" cy="36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1\Desktop\JOBS\Ministarstvo turizma RH\mint-logo.png"/>
          <p:cNvPicPr/>
          <p:nvPr/>
        </p:nvPicPr>
        <p:blipFill>
          <a:blip r:embed="rId7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F170-4146-40D3-A551-ED9CCA491A8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Očekivani učinci do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1619280" y="1268280"/>
            <a:ext cx="752472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7 milijardi eura</a:t>
            </a:r>
            <a:r>
              <a:rPr b="0" lang="hr-HR" sz="2800" spc="-1" strike="noStrike">
                <a:solidFill>
                  <a:srgbClr val="26445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novih invest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955 tisuća ležajeva u komercijalnim smještajnim objektima (+ 102 tisuće ležajeva u odnosu na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30 tisuća novo zaposlenih ( 20 tisuća u turizmu i 10 tisuća u pratećim djelatnos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86 milijuna noćenja u komercijalnim smještajnim kapacitetima (rast od 43% u odnosu na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14,3 milijardi EUR ukupne turističke potrošnje   (+ 6 mlrd e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zgb.jpg"/>
          <p:cNvPicPr/>
          <p:nvPr/>
        </p:nvPicPr>
        <p:blipFill>
          <a:blip r:embed="rId1"/>
          <a:stretch/>
        </p:blipFill>
        <p:spPr>
          <a:xfrm>
            <a:off x="6984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6DEB-5E9D-4809-888C-5256D6DBDD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6445c"/>
                </a:solidFill>
                <a:latin typeface="Calibri"/>
              </a:rPr>
              <a:t>Očekivani učinci do 2020/2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3"/>
          <a:stretch/>
        </p:blipFill>
        <p:spPr>
          <a:xfrm>
            <a:off x="934920" y="1355760"/>
            <a:ext cx="81266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520A-B879-4968-8601-41CC79A977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9372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26445c"/>
                </a:solidFill>
                <a:latin typeface="Calibri"/>
              </a:rPr>
              <a:t>Hvala Vam na pozornosti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tourists"/>
          <p:cNvPicPr/>
          <p:nvPr/>
        </p:nvPicPr>
        <p:blipFill>
          <a:blip r:embed="rId3"/>
          <a:stretch/>
        </p:blipFill>
        <p:spPr>
          <a:xfrm>
            <a:off x="1952640" y="3789360"/>
            <a:ext cx="6307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zgb.jp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Zašto Strategija razvoja turizm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18920" y="1413000"/>
            <a:ext cx="729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eduvjet za brži i kvalitetniji razvoj turiz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Usvajanjem i provedbom osigurati upravljanje turističkom budućnošć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hrabriti investitore u realizaciji svojih plan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odloga za definiranje turističkih razvojnih i prostornih planova nižih raz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snova za povlačenje sredstava iz Fondova Europsk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2f43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2f43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FB2C-3696-4DF2-86C0-B2A4194B77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a1\Desktop\JOBS\Ministarstvo turizma RH\mint-logo.png"/>
          <p:cNvPicPr/>
          <p:nvPr/>
        </p:nvPicPr>
        <p:blipFill>
          <a:blip r:embed="rId3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zervirano mjesto broja slajd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9C3-E230-4948-B02A-E3EE4B3821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zgb.jpg"/>
          <p:cNvPicPr/>
          <p:nvPr/>
        </p:nvPicPr>
        <p:blipFill>
          <a:blip r:embed="rId1"/>
          <a:stretch/>
        </p:blipFill>
        <p:spPr>
          <a:xfrm>
            <a:off x="0" y="2700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ravokutnik 5"/>
          <p:cNvSpPr/>
          <p:nvPr/>
        </p:nvSpPr>
        <p:spPr>
          <a:xfrm>
            <a:off x="1763640" y="1125360"/>
            <a:ext cx="738036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Turizam nam tre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Zbog investicija i snažnijeg gospodarskog r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Zbog zapošljavanja/novih radnih mj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Zbog ukupnog doprinosa društve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Turizmom žel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Pozicionirati se u EU kao zemlja jakog turističkog ident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Biti gostoljubiv i iskren domaćin s fokusom na kvalit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Ponuditi atraktivne proizvode i doživljaje zasnovane na autentičnosti i emocij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Ustrajati na održivom razvoju fokusirajući se na inov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1096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Zašto turizam treba Hrvatskoj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61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Sadašnje stanj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0560" y="1341360"/>
            <a:ext cx="3024360" cy="27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b95b2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Više od 852 tisuće stalnih ležajev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13% u hotelim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25% u kampovima, 13%  ostalim kolektivnim kapacitetima te 49% u kućanstvi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b95b2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Svega 40% hotelskih kapaciteta su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visoke kvalitete 4* i 5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b95b2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Dominantni turistički proizvod: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sunce i m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 rot="5400000">
            <a:off x="2195280" y="1196640"/>
            <a:ext cx="2879640" cy="316872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 rot="5400000">
            <a:off x="5760000" y="1161000"/>
            <a:ext cx="2879640" cy="324000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 rot="5400000">
            <a:off x="4787640" y="2131560"/>
            <a:ext cx="1584360" cy="6769080"/>
          </a:xfrm>
          <a:prstGeom prst="rect">
            <a:avLst/>
          </a:prstGeom>
          <a:noFill/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 rot="16200000">
            <a:off x="642240" y="2534400"/>
            <a:ext cx="2303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PON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tent Placeholder 2"/>
          <p:cNvSpPr/>
          <p:nvPr/>
        </p:nvSpPr>
        <p:spPr>
          <a:xfrm rot="16200000">
            <a:off x="4242240" y="2460960"/>
            <a:ext cx="2303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POTRAŽ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835280" y="2565360"/>
            <a:ext cx="96840" cy="80820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7"/>
          <p:cNvSpPr/>
          <p:nvPr/>
        </p:nvSpPr>
        <p:spPr>
          <a:xfrm>
            <a:off x="5435640" y="2852640"/>
            <a:ext cx="106200" cy="40824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 rot="16200000">
            <a:off x="786240" y="5918400"/>
            <a:ext cx="2303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REZ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9"/>
          <p:cNvSpPr/>
          <p:nvPr/>
        </p:nvSpPr>
        <p:spPr>
          <a:xfrm>
            <a:off x="2050920" y="6021360"/>
            <a:ext cx="98640" cy="24912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5724360" y="1413000"/>
            <a:ext cx="295308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Preko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60,4 milijuna noćenja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u registriranim komercijalnim smještajnim objektima (2011. prema DZ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11,5 milijuna dolazaka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(2011. prema DZ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Svako treće noćenje ostvareno u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privatnom smješta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2340000" y="4797360"/>
            <a:ext cx="374472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Preko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95,500 osoba zaposlenih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sektoru ugostiteljstva i turizma, što čini gotovo 7% svih zaposlenih u Hrvatsk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7,3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 milijarde EUR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turističke potrošnje (6,3 mlrd inozemna + 1 mlrd domać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5867280" y="4797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Zbog proizvodne strukture izrazita sezonalnost – u četiri ljetna mjeseca (lipanj-rujan) ostvari se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87% svih noćen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u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Hrvatsk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22"/>
          <p:cNvSpPr/>
          <p:nvPr/>
        </p:nvSpPr>
        <p:spPr>
          <a:xfrm rot="10800000">
            <a:off x="4427280" y="4365720"/>
            <a:ext cx="1996920" cy="24912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zervirano mjesto broja slajda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2D0-7EF0-4FDF-9690-88311CEB7B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Konkurentski statu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1197000"/>
            <a:ext cx="30240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edovoljna diferenciranost proizvoda i uslug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edostatak inovativnih i kvalitetnih sadržaja za go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Rast temeljen na ekspanziji privatnog smješta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edovoljna investicijska aktivnost i premalo novih hotelskih kapacit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„</a:t>
            </a: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Klasični” nacionalni turistički 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aslijeđena orijentacija ka sezonskom poslovan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5580000" y="2565360"/>
            <a:ext cx="2619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No i s ovakvim konkurentskim nedostatcima, Hrvatski turizam je u krizno do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26445c"/>
                </a:solidFill>
                <a:uFillTx/>
                <a:latin typeface="Calibri"/>
              </a:rPr>
              <a:t>ostvarivao rezultate bolje od mediteranske konkurencij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5400000">
            <a:off x="899280" y="2204640"/>
            <a:ext cx="5111640" cy="309564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 rot="16200000">
            <a:off x="157680" y="2946960"/>
            <a:ext cx="3129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KONKURENTSKI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4"/>
          <p:cNvSpPr/>
          <p:nvPr/>
        </p:nvSpPr>
        <p:spPr>
          <a:xfrm>
            <a:off x="1763640" y="3716280"/>
            <a:ext cx="96840" cy="80964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15"/>
          <p:cNvSpPr/>
          <p:nvPr/>
        </p:nvSpPr>
        <p:spPr>
          <a:xfrm rot="5400000">
            <a:off x="4202640" y="3798000"/>
            <a:ext cx="1996920" cy="24948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 rot="5400000">
            <a:off x="5252040" y="1956240"/>
            <a:ext cx="3824280" cy="360072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Isosceles Triangle 3"/>
          <p:cNvGrpSpPr/>
          <p:nvPr/>
        </p:nvGrpSpPr>
        <p:grpSpPr>
          <a:xfrm>
            <a:off x="8028000" y="3645000"/>
            <a:ext cx="597960" cy="999720"/>
            <a:chOff x="8028000" y="3645000"/>
            <a:chExt cx="597960" cy="999720"/>
          </a:xfrm>
        </p:grpSpPr>
        <p:pic>
          <p:nvPicPr>
            <p:cNvPr id="105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8028000" y="3645000"/>
              <a:ext cx="59796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1"/>
            <p:cNvSpPr/>
            <p:nvPr/>
          </p:nvSpPr>
          <p:spPr>
            <a:xfrm rot="10800000">
              <a:off x="8271720" y="3724920"/>
              <a:ext cx="217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Isosceles Triangle 18"/>
          <p:cNvGrpSpPr/>
          <p:nvPr/>
        </p:nvGrpSpPr>
        <p:grpSpPr>
          <a:xfrm>
            <a:off x="8478720" y="3255840"/>
            <a:ext cx="416160" cy="835200"/>
            <a:chOff x="8478720" y="3255840"/>
            <a:chExt cx="416160" cy="835200"/>
          </a:xfrm>
        </p:grpSpPr>
        <p:pic>
          <p:nvPicPr>
            <p:cNvPr id="108" name="Isosceles Triangle 18" descr=""/>
            <p:cNvPicPr/>
            <p:nvPr/>
          </p:nvPicPr>
          <p:blipFill>
            <a:blip r:embed="rId3"/>
            <a:stretch/>
          </p:blipFill>
          <p:spPr>
            <a:xfrm>
              <a:off x="8478720" y="3255840"/>
              <a:ext cx="416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655120" y="3673440"/>
              <a:ext cx="1396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zervirano mjesto broja slajda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2287-AC3A-47F8-ABAD-C756329D6E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a1\Desktop\JOBS\Ministarstvo turizma RH\mint-logo.png"/>
          <p:cNvPicPr/>
          <p:nvPr/>
        </p:nvPicPr>
        <p:blipFill>
          <a:blip r:embed="rId4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4760" y="50760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Tržišne prilike za Hrvats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2" descr=""/>
          <p:cNvPicPr/>
          <p:nvPr/>
        </p:nvPicPr>
        <p:blipFill>
          <a:blip r:embed="rId2"/>
          <a:stretch/>
        </p:blipFill>
        <p:spPr>
          <a:xfrm>
            <a:off x="1749600" y="1474920"/>
            <a:ext cx="7229160" cy="4620960"/>
          </a:xfrm>
          <a:prstGeom prst="rect">
            <a:avLst/>
          </a:prstGeom>
          <a:ln w="0">
            <a:noFill/>
          </a:ln>
        </p:spPr>
      </p:pic>
      <p:sp>
        <p:nvSpPr>
          <p:cNvPr id="116" name="Rezervirano mjesto broja slajda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823A-FD4B-44CE-8680-C238D09C59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a1\Desktop\JOBS\Ministarstvo turizma RH\mint-logo.png"/>
          <p:cNvPicPr/>
          <p:nvPr/>
        </p:nvPicPr>
        <p:blipFill>
          <a:blip r:embed="rId3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6372360" y="9684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162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445c"/>
                </a:solidFill>
                <a:latin typeface="Calibri"/>
              </a:rPr>
              <a:t>10 ključnih razvojnih usmjerenja hrvatskog turizma do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8000" y="1530360"/>
          <a:ext cx="6769440" cy="5067360"/>
        </p:xfrm>
        <a:graphic>
          <a:graphicData uri="http://schemas.openxmlformats.org/drawingml/2006/table">
            <a:tbl>
              <a:tblPr/>
              <a:tblGrid>
                <a:gridCol w="3322800"/>
                <a:gridCol w="3446640"/>
              </a:tblGrid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Institucionalno deregulir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Turizam na cijelom prostor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644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Partnerstvom do uspje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Hotelijerstvo - ključni pokretač investicijskog cikl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</a:tr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Kultura kvalit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Inoviranje tržišnog nastu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‘</a:t>
                      </a: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Zeleno’ kao filozofija djelo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Autentičnost i kreativ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</a:tr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Više od sunca i m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Hrvatski proizvod za hrvatski turiz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zervirano mjesto broja slajd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58CE-5A53-4794-81CB-3472B15316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19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Vizija turizma Republike Hrvatske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zervirano mjesto broja slajd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819-DD2B-42D7-A150-3084484864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1727280" y="1844640"/>
            <a:ext cx="7308720" cy="44481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Calibri"/>
              </a:rPr>
              <a:t>Hrvatska je u 2020. godini globalno prepoznatljiva turistička destinacija, konkurentna i atraktivna za investicije, koja stvara radna mjesta i na održiv način upravlja razvojem na svom cjelokupnom prostoru, njeguje kulturu kvalitete, a svojim gostima tijekom cijele godine pruža gostoljubivost, sigurnost te autentične sadržaje i doživlja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2:05:35Z</dcterms:created>
  <dc:creator>ljudmila</dc:creator>
  <dc:description/>
  <dc:language>en-US</dc:language>
  <cp:lastModifiedBy>Dario Trnka</cp:lastModifiedBy>
  <dcterms:modified xsi:type="dcterms:W3CDTF">2014-04-23T08:44:43Z</dcterms:modified>
  <cp:revision>80</cp:revision>
  <dc:subject/>
  <dc:title>Slajd 1</dc:title>
</cp:coreProperties>
</file>