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dt" idx="4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ladaRHSans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ladaRHSans 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ladaRHSans B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ladaRHSans Bk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ftr" idx="4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 type="sldNum" idx="4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ladaRHSans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EB92-FE9F-4F5B-86EF-A7EE61DB9334}" type="slidenum">
              <a:rPr b="0" lang="hr-HR" sz="1200" spc="-1" strike="noStrike">
                <a:solidFill>
                  <a:srgbClr val="000000"/>
                </a:solidFill>
                <a:latin typeface="VladaRHSans 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ladaRHSans Bk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3955-EC9B-43CA-9DD3-86B22A91FDB6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VladaRHSans Bk"/>
            </a:endParaRPr>
          </a:p>
        </p:txBody>
      </p:sp>
      <p:sp>
        <p:nvSpPr>
          <p:cNvPr id="830" name="Rezervirano mjesto broja slajd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E9EE-8643-43F9-ACEB-145C613DC9ED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ladaRHSans Bk"/>
            </a:endParaRPr>
          </a:p>
        </p:txBody>
      </p:sp>
      <p:sp>
        <p:nvSpPr>
          <p:cNvPr id="824" name="Rezervirano mjesto broja slajd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91E2-FAF0-4FB9-B4BA-C5F3A85503CF}" type="slidenum">
              <a:rPr b="0" lang="hr-HR" sz="1200" spc="-1" strike="noStrike">
                <a:solidFill>
                  <a:srgbClr val="000000"/>
                </a:solidFill>
                <a:latin typeface="VladaRHSans 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ladaRHSans Bk"/>
            </a:endParaRPr>
          </a:p>
        </p:txBody>
      </p:sp>
      <p:sp>
        <p:nvSpPr>
          <p:cNvPr id="827" name="Rezervirano mjesto broja slajd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3E02-569F-4D78-B9D9-2C97098B312C}" type="slidenum">
              <a:rPr b="0" lang="hr-HR" sz="1200" spc="-1" strike="noStrike">
                <a:solidFill>
                  <a:srgbClr val="000000"/>
                </a:solidFill>
                <a:latin typeface="VladaRHSans 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E1F-EA30-4A45-9A67-721F9674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E28-14F2-4660-BE88-685BA721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332C3-36F3-48E3-9444-28683966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55688-B595-4A80-A185-F49E3E4C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252D0-0BF8-4C73-B4FD-75EB291E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195D4-1BD5-4361-86BB-CC0BCCCA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20083-CCF1-4FD9-A314-42BE3B17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558E8-0E7E-4289-A0C9-888DE1DC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D5FF2-E2D8-452C-9EE8-E0A335C9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03D20-23CF-4C92-8DB6-09A34B71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607BE-BBC6-45E3-8771-40B17812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F3D38-33EB-4D4E-AA78-3EF41997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94A-374C-447D-92BD-B2EB7199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8F8BB-805F-4194-BD85-F3172A44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44899-8F84-4436-8F88-5DE4041D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C006B-E174-4085-B4BD-87B100D9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E89A9-F4C7-4E2B-A389-B994030C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217BC-CC5B-4ABA-BE4A-3FE18FAF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42539-CCEA-49A7-A683-A4AC149D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F18B7-08A8-4065-83BE-11F1B1E1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2C19C-4E0C-4F70-BD65-FE38F948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6D2B5-DADF-4CDF-BA3B-138CE0E1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45A42-57DB-4CB9-9445-5502585D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A603-AE4F-4D39-A875-84AE3305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EDA10-6EEE-47DD-8966-722ADA11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4B882-E80F-4FE7-8DC0-FD39DF6F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228E0-DC99-4800-B6B9-B9BECF0A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C73DB-9774-428F-A186-3CB82B17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E4DA5-38C6-4C1C-8055-DC529EAB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79C28-AE8F-48E0-A3B1-6A3F0246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E4632-A46E-4B16-AF39-636A0BDB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2A090-EF15-4955-8180-17080519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2E583-1FAD-4287-9F23-92108D2F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33DE0-C193-48DD-8CCF-019852F8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9399-CF85-4EA0-A8E1-FB994B3F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23478-208D-41CC-BFA9-91FD8C33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FE97F-FF43-4B11-B85B-CF1FADC2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5642C-7FA2-48C3-A753-645145A0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8B815-1ACF-4670-B0C5-415F4031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11B44-B0EA-4066-94D1-6E1F2609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A5710-D256-4CE8-BFF3-9AB35616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8C17E-F5E1-46F3-A240-2C37BA42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D9798-B306-4306-BB47-3ADFCAA8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FED32-1C96-49ED-B263-54039319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4417F-A04F-4C03-9DF7-B79E702F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C8D4-2A49-4125-B44B-F0E9BB53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F4B2D-9C59-4E1C-B672-F804A5F0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3B7E2-8FCB-4CF7-A736-A7D057DD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626BA-6C48-40BE-A810-1EAF9293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64101-F458-47AF-99F7-5FC54EF9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22B8E-751A-432A-8E0D-45DF32BA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9CC96-4BD6-4A3F-A31B-248488AA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3C6E9-ADD2-40F9-969F-9BC3539F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7F445-9D86-4283-AAB5-BD41354C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EB2C6-4B6B-4890-B205-16FB78C3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C4275-D26C-4462-A1D6-FB5566AD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6349-FAD8-4F7F-B03E-6C5152D5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3A34F-6F27-462D-B3A2-703D7E48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BC693-47C2-40BD-92AA-F734752B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0BCD5-6047-4E40-9A69-5A151340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50C25-E061-4407-BE5D-7AB9982B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D01DF-6BCF-41E5-BD9B-AEDCF0E4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0A565-ED08-4E58-AE0B-DBA4323A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CCF4C-1353-41AE-9E30-6D16305F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F8194-485E-4AF7-9F29-D8D41F2C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98A1B-2C94-4AA3-87CB-3ACEF1B8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D698D-62A0-47C3-A0BF-9156E14B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75A0-D75F-472B-8916-8270CDFE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21351-3CEC-4AF1-9A52-50E91C76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5240D-C714-413E-890E-899C177B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9B5AA-55D3-44D5-8A34-B87B22AC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84FF7-8254-48DC-9F00-570CF507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CE36F-BAAF-44A1-A76E-6751A819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E0581-37C4-420A-9181-5A19336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CB06D-19BD-4CD0-A274-C30F9D73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1D8A8-5304-49B3-BB14-71C038F6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48CFA-229C-4CBD-A237-DCF19A9E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7196-157F-4A94-AA72-6B1696AC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1337-47CE-4730-BC8E-C91952A9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6A0D6C-DC21-4863-8AEC-B232453FBEB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6961B19-2745-48F1-B2EF-CED3724B21B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966275-312E-4796-B4F1-2743F3EC587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647419-F862-4273-A188-ED5481DE292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26EA9B-7C38-4AAC-9B00-1CD18F445DC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6920925-43E1-47F9-BBDB-FB3DC41F86A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36D28B-96FF-4AAB-8B40-FA7103AC14B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BD1F23-9021-4C9C-9B05-B615A49D1D8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35A815-2E42-48FD-A2AC-AF9A30A8EF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4AE8-B3A7-4086-84F0-9AAFA0AD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20750E-C006-4A9E-8D2C-C658B155609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59DCFB3-E6F0-4B83-A2F6-0CF21967F1D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8C9F2B9-98D2-45BE-AD96-16843B7E440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5C8784-9064-4ABE-8F10-7AB446A0E4A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86915-EE3A-442D-92E7-C043E8B607E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C3A19C-36CE-42A7-A5DE-F147E2B98ED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F3645-A309-4D2A-854E-55A2574EBE4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81A1B-039C-4343-85D9-3BA607FFE94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FD6AF-38AE-4906-9B81-E2C512C9135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ADA23B-3A10-470C-9D86-689F4D6979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E4E-F924-4BE2-815D-5A6AC062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4485-3050-48B1-8D87-13E69F4B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055D7-5337-4E45-99A8-F7F6C5CB814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B5C704-9CD4-4B9B-A3F8-8307714A7AE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E21E4F-62A4-4F86-9FB0-F258A5E1E79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BB860-7466-4442-B537-B9380840481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2FFF0-742F-400E-8270-DEEAE2601A7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D892-21A9-4522-A7E5-8F7587A5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BE96-5FEE-4F16-89A3-94AEBB2D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3D1A-91FF-4554-83D9-F3571F21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D7D1-DDB7-47ED-82A3-C224E190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74A35A-CBF1-4565-924C-F1687BB18C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5CE52A-0AF5-4D05-83F2-DF1D6CF799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8A112F-E461-4225-98C6-D6026CCCAC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13B96A-84AD-48E5-AC2E-CE352BD108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91879B-FC71-4B5B-8673-5E6172681D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224-BED9-4C9F-AE64-15B91D70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A947F6-27B1-4B63-8DD2-3419AA5351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94E783-C895-47DF-A8F1-AF82B7D3BE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19501D-57FB-48C8-868B-CE5F4AEE03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CED903-9E1C-495E-8A9E-82B864369F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7793DE-5E01-47F2-B708-14EE9BEC7D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D63D9B-1981-481E-A66E-CD663FBB2C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1D50E6-B098-49BC-82CC-57E3C0B13E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061609-473F-4706-B41B-1ECCF6D6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A7A84A-F7A5-45B7-A2E6-15EBD998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DF4C7-D94E-4BA3-9917-49D2A21A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30E-DF49-454E-B9D4-213CB7EB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05B19-4CEB-4457-BDAA-F254A626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43FA5B-6121-42F7-ACCF-37FC3F51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C95B59-E1D9-41C8-8503-D42D3C04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5A9C6-CF8F-4CB9-A91D-FC27F884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0C1EA3-9E57-42A6-95E9-55AE8D23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22014-30C1-4CA9-B85F-F7CDF0E1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4FE306-1044-4826-A10E-9E906299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80FBF-12BE-4210-916A-7C46C374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E4361-D723-47B4-B73F-4988F234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FA1899-8D2D-4B35-A053-01EE7AE5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4C1-4786-49BE-B239-253A5174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42B962-2085-45AC-BAAA-0577A6F0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1465D-484B-4786-B65F-EA234703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618D3-FEA2-4CF4-B9AC-EC2B0563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F6AE5-92F1-4A91-9506-676C93B8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3F4AB-404E-4F11-B179-C424A65E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3420F-0D5B-4296-87D7-F50BFBB9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2558D-7B5E-49E7-AECD-0D00A757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3D751C-1054-4441-B3D1-CF6E6E12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2BDDF-058B-45BF-87D0-3D6144FF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2D046-496E-4CE6-9732-EDC63A74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290-77CF-46B5-A873-44BDD693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0FD85-F03B-48B2-91C7-91ACF70F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635BE3-4C86-438B-BF67-F07AAF86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8A8F63-8B42-4D54-88C2-2102F239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743B6-2BBD-454B-850F-C377069D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321380-4A7E-4C6C-B0BD-16768CBA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DFE66-F964-4660-A2D7-FDBC8AE7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594CE-844A-4F2A-9447-C5355AD8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FE1BE-F222-44C1-9986-E882E4E0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7CF28-A9F2-4E86-AB26-A4DB9104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01579A-9F11-4C29-83D6-21337E6B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B5C-D9AB-42D5-8C15-E01181C1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7FA84-537C-4BB7-8301-18561765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6AFCE2-1B8C-4506-95FD-240EB5B4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EE478-80AC-4612-89E4-BA2C7AB1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9E313-7E47-423E-9D31-830360D8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F8B7D3-F3DF-4738-A3A4-A09563DF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EBDD3-1FA0-4878-9AD3-42E1D29E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FF62B-F8AE-4F1F-B36B-73C5024C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08AA73-4B45-4D71-B1D1-35EF3B8C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91F815-71EE-457C-8D92-43332435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35EF0-5BA9-4CCA-87EF-D3898567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0DD-6D46-4393-B197-7CAC3FA9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1CBEE9-9EEA-459E-873B-1AA65AA9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7F0FF1-41FA-4F69-826E-89B4B53B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3AE92-8127-4067-8194-ACC40648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93AD47-F18A-4AAA-B92F-19CB58BA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B52D2-C244-4FC5-9C2C-F6EA6F0D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4E6FE-460C-44F4-AF76-1DCD2F94C2E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F2D4D-B5F2-4C7A-87D6-C843A4BC623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C48D0-62AF-499F-8A95-F0B3B606856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0AA39-BB5A-4F21-B639-130B2DAB66A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F4DE8-CB49-410F-94B4-302A4EF96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E42-9680-49FA-BC47-93791684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E245A-58D1-4D9D-91E5-97FAA67C6D7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E88C6-4C51-4EDB-B90A-B323F81AACE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0E2E6-E659-44D9-862B-F6F669B83E3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2B22E-B5B4-434C-9DB7-F9AE8913AB5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830FE-AC6B-4851-8209-AEFEFD5BE6E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61A64-975C-4142-81E6-364E48DEFD6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C48AD-728D-4C35-845A-EDC1DF5398A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E309C-7929-47E3-BD85-077EDBD4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32A49-74E7-4D4E-A157-29EEFF1B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45E40-75FF-4DA0-A5E7-26C5129C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ladaRHSans 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ladaRHSans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ladaRHSans 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ladaRHSans 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ladaRHSans 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ladaRHSans 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ladaRHSans 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ladaRHSans 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ladaRHSans 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ladaRHSans 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ladaRHSans 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ladaRHSans 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ladaRHSans 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ladaRHSans 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ladaRHSans 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ladaRHSans 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VladaRHSans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VladaRHSans 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VladaRHSans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1BF6-20C5-40F1-B381-DFD0B5F61162}" type="slidenum">
              <a:rPr b="0" lang="hr-HR" sz="1200" spc="-1" strike="noStrike">
                <a:solidFill>
                  <a:srgbClr val="898989"/>
                </a:solidFill>
                <a:latin typeface="VladaRHSans 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2461-0CD4-4D2E-9360-31D16C769E2C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traight Connector 7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5708-1097-4D77-9C3D-6A6FEA0E1A6B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6E77-5B0E-42CD-823D-3548C9841393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BAF6-C678-42DF-875A-C0C4278E8982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E8A2-71EF-4059-8FC3-7F171EA26C92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5"/>
          <p:cNvSpPr/>
          <p:nvPr/>
        </p:nvSpPr>
        <p:spPr>
          <a:xfrm>
            <a:off x="6397560" y="6554880"/>
            <a:ext cx="2313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123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800" spc="-1" strike="noStrike">
                <a:solidFill>
                  <a:srgbClr val="002776"/>
                </a:solidFill>
                <a:latin typeface="Arial"/>
              </a:rPr>
              <a:t>© 2009 Deloitte Touche Tohma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98"/>
          <p:cNvGrpSpPr/>
          <p:nvPr/>
        </p:nvGrpSpPr>
        <p:grpSpPr>
          <a:xfrm>
            <a:off x="-1157400" y="0"/>
            <a:ext cx="955800" cy="3889440"/>
            <a:chOff x="-1157400" y="0"/>
            <a:chExt cx="955800" cy="3889440"/>
          </a:xfrm>
        </p:grpSpPr>
        <p:sp>
          <p:nvSpPr>
            <p:cNvPr id="578" name="Rectangle 27"/>
            <p:cNvSpPr/>
            <p:nvPr/>
          </p:nvSpPr>
          <p:spPr>
            <a:xfrm>
              <a:off x="-1157400" y="0"/>
              <a:ext cx="955800" cy="388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2776"/>
                  </a:solidFill>
                  <a:latin typeface="Arial"/>
                </a:rPr>
                <a:t>Primary colo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Group 50"/>
            <p:cNvGrpSpPr/>
            <p:nvPr/>
          </p:nvGrpSpPr>
          <p:grpSpPr>
            <a:xfrm>
              <a:off x="-893520" y="180720"/>
              <a:ext cx="428760" cy="585720"/>
              <a:chOff x="-893520" y="180720"/>
              <a:chExt cx="428760" cy="585720"/>
            </a:xfrm>
          </p:grpSpPr>
          <p:sp>
            <p:nvSpPr>
              <p:cNvPr id="580" name="Rectangle 25"/>
              <p:cNvSpPr/>
              <p:nvPr/>
            </p:nvSpPr>
            <p:spPr>
              <a:xfrm>
                <a:off x="-893520" y="180720"/>
                <a:ext cx="428760" cy="585720"/>
              </a:xfrm>
              <a:prstGeom prst="rect">
                <a:avLst/>
              </a:prstGeom>
              <a:solidFill>
                <a:srgbClr val="002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14"/>
              <p:cNvSpPr/>
              <p:nvPr/>
            </p:nvSpPr>
            <p:spPr>
              <a:xfrm>
                <a:off x="-831240" y="242640"/>
                <a:ext cx="329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R 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G 3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B 11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52"/>
            <p:cNvGrpSpPr/>
            <p:nvPr/>
          </p:nvGrpSpPr>
          <p:grpSpPr>
            <a:xfrm>
              <a:off x="-893520" y="1414440"/>
              <a:ext cx="428760" cy="583920"/>
              <a:chOff x="-893520" y="1414440"/>
              <a:chExt cx="428760" cy="583920"/>
            </a:xfrm>
          </p:grpSpPr>
          <p:sp>
            <p:nvSpPr>
              <p:cNvPr id="583" name="Rectangle 25"/>
              <p:cNvSpPr/>
              <p:nvPr/>
            </p:nvSpPr>
            <p:spPr>
              <a:xfrm>
                <a:off x="-893520" y="1414440"/>
                <a:ext cx="428760" cy="583920"/>
              </a:xfrm>
              <a:prstGeom prst="rect">
                <a:avLst/>
              </a:prstGeom>
              <a:solidFill>
                <a:srgbClr val="00a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16"/>
              <p:cNvSpPr/>
              <p:nvPr/>
            </p:nvSpPr>
            <p:spPr>
              <a:xfrm>
                <a:off x="-838080" y="1465200"/>
                <a:ext cx="34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R 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G 16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B 22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53"/>
            <p:cNvGrpSpPr/>
            <p:nvPr/>
          </p:nvGrpSpPr>
          <p:grpSpPr>
            <a:xfrm>
              <a:off x="-893520" y="2030400"/>
              <a:ext cx="428760" cy="583920"/>
              <a:chOff x="-893520" y="2030400"/>
              <a:chExt cx="428760" cy="583920"/>
            </a:xfrm>
          </p:grpSpPr>
          <p:sp>
            <p:nvSpPr>
              <p:cNvPr id="586" name="Rectangle 25"/>
              <p:cNvSpPr/>
              <p:nvPr/>
            </p:nvSpPr>
            <p:spPr>
              <a:xfrm>
                <a:off x="-893520" y="2030400"/>
                <a:ext cx="428760" cy="583920"/>
              </a:xfrm>
              <a:prstGeom prst="rect">
                <a:avLst/>
              </a:prstGeom>
              <a:solidFill>
                <a:srgbClr val="3c8a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25"/>
              <p:cNvSpPr/>
              <p:nvPr/>
            </p:nvSpPr>
            <p:spPr>
              <a:xfrm>
                <a:off x="-838080" y="2092320"/>
                <a:ext cx="34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R 6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G 13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B 4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54"/>
            <p:cNvGrpSpPr/>
            <p:nvPr/>
          </p:nvGrpSpPr>
          <p:grpSpPr>
            <a:xfrm>
              <a:off x="-893520" y="2646360"/>
              <a:ext cx="428760" cy="585720"/>
              <a:chOff x="-893520" y="2646360"/>
              <a:chExt cx="428760" cy="585720"/>
            </a:xfrm>
          </p:grpSpPr>
          <p:sp>
            <p:nvSpPr>
              <p:cNvPr id="589" name="Rectangle 25"/>
              <p:cNvSpPr/>
              <p:nvPr/>
            </p:nvSpPr>
            <p:spPr>
              <a:xfrm>
                <a:off x="-893520" y="2646360"/>
                <a:ext cx="428760" cy="585720"/>
              </a:xfrm>
              <a:prstGeom prst="rect">
                <a:avLst/>
              </a:prstGeom>
              <a:solidFill>
                <a:srgbClr val="72c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7"/>
              <p:cNvSpPr/>
              <p:nvPr/>
            </p:nvSpPr>
            <p:spPr>
              <a:xfrm>
                <a:off x="-838080" y="2708280"/>
                <a:ext cx="34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2776"/>
                    </a:solidFill>
                    <a:latin typeface="Arial"/>
                  </a:rPr>
                  <a:t>R 1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2776"/>
                    </a:solidFill>
                    <a:latin typeface="Arial"/>
                  </a:rPr>
                  <a:t>G 1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2776"/>
                    </a:solidFill>
                    <a:latin typeface="Arial"/>
                  </a:rPr>
                  <a:t>B 23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55"/>
            <p:cNvGrpSpPr/>
            <p:nvPr/>
          </p:nvGrpSpPr>
          <p:grpSpPr>
            <a:xfrm>
              <a:off x="-893520" y="3262320"/>
              <a:ext cx="428760" cy="585720"/>
              <a:chOff x="-893520" y="3262320"/>
              <a:chExt cx="428760" cy="585720"/>
            </a:xfrm>
          </p:grpSpPr>
          <p:sp>
            <p:nvSpPr>
              <p:cNvPr id="592" name="Rectangle 25"/>
              <p:cNvSpPr/>
              <p:nvPr/>
            </p:nvSpPr>
            <p:spPr>
              <a:xfrm>
                <a:off x="-893520" y="3262320"/>
                <a:ext cx="428760" cy="585720"/>
              </a:xfrm>
              <a:prstGeom prst="rect">
                <a:avLst/>
              </a:prstGeom>
              <a:solidFill>
                <a:srgbClr val="c9d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21"/>
              <p:cNvSpPr/>
              <p:nvPr/>
            </p:nvSpPr>
            <p:spPr>
              <a:xfrm>
                <a:off x="-838080" y="3324240"/>
                <a:ext cx="34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2776"/>
                    </a:solidFill>
                    <a:latin typeface="Arial"/>
                  </a:rPr>
                  <a:t>R 20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2776"/>
                    </a:solidFill>
                    <a:latin typeface="Arial"/>
                  </a:rPr>
                  <a:t>G 2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2776"/>
                    </a:solidFill>
                    <a:latin typeface="Arial"/>
                  </a:rPr>
                  <a:t>B 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Group 51"/>
            <p:cNvGrpSpPr/>
            <p:nvPr/>
          </p:nvGrpSpPr>
          <p:grpSpPr>
            <a:xfrm>
              <a:off x="-893520" y="798480"/>
              <a:ext cx="428760" cy="583920"/>
              <a:chOff x="-893520" y="798480"/>
              <a:chExt cx="428760" cy="583920"/>
            </a:xfrm>
          </p:grpSpPr>
          <p:sp>
            <p:nvSpPr>
              <p:cNvPr id="595" name="Rectangle 25"/>
              <p:cNvSpPr/>
              <p:nvPr/>
            </p:nvSpPr>
            <p:spPr>
              <a:xfrm>
                <a:off x="-893520" y="798480"/>
                <a:ext cx="428760" cy="583920"/>
              </a:xfrm>
              <a:prstGeom prst="rect">
                <a:avLst/>
              </a:prstGeom>
              <a:solidFill>
                <a:srgbClr val="92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15"/>
              <p:cNvSpPr/>
              <p:nvPr/>
            </p:nvSpPr>
            <p:spPr>
              <a:xfrm>
                <a:off x="-838080" y="860400"/>
                <a:ext cx="34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R 14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G 21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B 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7" name="Picture 5" descr="DEL_PRI_RGB"/>
          <p:cNvPicPr/>
          <p:nvPr/>
        </p:nvPicPr>
        <p:blipFill>
          <a:blip r:embed="rId3"/>
          <a:srcRect l="7785" t="27349" r="9871" b="25596"/>
          <a:stretch/>
        </p:blipFill>
        <p:spPr>
          <a:xfrm>
            <a:off x="6786720" y="6324480"/>
            <a:ext cx="2346120" cy="53352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96720" y="299880"/>
            <a:ext cx="83505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800" spc="-1" strike="noStrike">
                <a:solidFill>
                  <a:srgbClr val="00277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27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5"/>
          <p:cNvSpPr/>
          <p:nvPr/>
        </p:nvSpPr>
        <p:spPr>
          <a:xfrm>
            <a:off x="6397560" y="6554880"/>
            <a:ext cx="2313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123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800" spc="-1" strike="noStrike">
                <a:solidFill>
                  <a:srgbClr val="002776"/>
                </a:solidFill>
                <a:latin typeface="Arial"/>
              </a:rPr>
              <a:t>© 2009 Deloitte Touche Tohma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6397560" y="6554880"/>
            <a:ext cx="2313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123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800" spc="-1" strike="noStrike">
                <a:solidFill>
                  <a:srgbClr val="002776"/>
                </a:solidFill>
                <a:latin typeface="Arial"/>
              </a:rPr>
              <a:t>© 2009 Deloitte Touche Tohma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96720" y="299880"/>
            <a:ext cx="83505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800" spc="-1" strike="noStrike">
                <a:solidFill>
                  <a:srgbClr val="00277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277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ldNum" idx="40"/>
          </p:nvPr>
        </p:nvSpPr>
        <p:spPr>
          <a:xfrm>
            <a:off x="415440" y="6554520"/>
            <a:ext cx="282600" cy="1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23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2776"/>
                </a:solidFill>
                <a:latin typeface="Times New Roman"/>
              </a:defRPr>
            </a:lvl1pPr>
          </a:lstStyle>
          <a:p>
            <a:pPr indent="0">
              <a:lnSpc>
                <a:spcPts val="1123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3E24-B8EA-41B6-BD8E-61A76FAAD538}" type="slidenum">
              <a:rPr b="1" lang="en-US" sz="1000" spc="-1" strike="noStrike">
                <a:solidFill>
                  <a:srgbClr val="00277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ftr" idx="41"/>
          </p:nvPr>
        </p:nvSpPr>
        <p:spPr>
          <a:xfrm>
            <a:off x="771120" y="6554520"/>
            <a:ext cx="4318200" cy="1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8"/>
          <p:cNvSpPr/>
          <p:nvPr/>
        </p:nvSpPr>
        <p:spPr>
          <a:xfrm>
            <a:off x="6397560" y="6554880"/>
            <a:ext cx="2313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123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800" spc="-1" strike="noStrike">
                <a:solidFill>
                  <a:srgbClr val="002776"/>
                </a:solidFill>
                <a:latin typeface="Arial"/>
              </a:rPr>
              <a:t>© 2009 Deloitte Touche Tohma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1"/>
          <p:cNvSpPr/>
          <p:nvPr/>
        </p:nvSpPr>
        <p:spPr>
          <a:xfrm>
            <a:off x="6397560" y="6554880"/>
            <a:ext cx="2313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123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800" spc="-1" strike="noStrike">
                <a:solidFill>
                  <a:srgbClr val="002776"/>
                </a:solidFill>
                <a:latin typeface="Arial"/>
              </a:rPr>
              <a:t>© 2009 Deloitte Touche Tohma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96720" y="299880"/>
            <a:ext cx="83505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800" spc="-1" strike="noStrike">
                <a:solidFill>
                  <a:srgbClr val="00277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277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ldNum" idx="42"/>
          </p:nvPr>
        </p:nvSpPr>
        <p:spPr>
          <a:xfrm>
            <a:off x="415440" y="6554520"/>
            <a:ext cx="282600" cy="1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23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2776"/>
                </a:solidFill>
                <a:latin typeface="Times New Roman"/>
              </a:defRPr>
            </a:lvl1pPr>
          </a:lstStyle>
          <a:p>
            <a:pPr indent="0">
              <a:lnSpc>
                <a:spcPts val="1123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4F67-9E99-4380-B26B-1763985F4BF0}" type="slidenum">
              <a:rPr b="1" lang="en-US" sz="1000" spc="-1" strike="noStrike">
                <a:solidFill>
                  <a:srgbClr val="00277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43"/>
          </p:nvPr>
        </p:nvSpPr>
        <p:spPr>
          <a:xfrm>
            <a:off x="771120" y="6554520"/>
            <a:ext cx="4318200" cy="1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5"/>
          <p:cNvSpPr/>
          <p:nvPr/>
        </p:nvSpPr>
        <p:spPr>
          <a:xfrm>
            <a:off x="6397560" y="6554880"/>
            <a:ext cx="2313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123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800" spc="-1" strike="noStrike">
                <a:solidFill>
                  <a:srgbClr val="002776"/>
                </a:solidFill>
                <a:latin typeface="Arial"/>
              </a:rPr>
              <a:t>© 2009 Deloitte Touche Tohma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96720" y="299880"/>
            <a:ext cx="83505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2ED3-E8E4-4F9F-840A-F9EFE998BCA4}" type="slidenum">
              <a:rPr b="1" lang="hr-H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Num" idx="7"/>
          </p:nvPr>
        </p:nvSpPr>
        <p:spPr>
          <a:xfrm>
            <a:off x="415440" y="6554520"/>
            <a:ext cx="282600" cy="1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23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2776"/>
                </a:solidFill>
                <a:latin typeface="Times New Roman"/>
              </a:defRPr>
            </a:lvl1pPr>
          </a:lstStyle>
          <a:p>
            <a:pPr indent="0">
              <a:lnSpc>
                <a:spcPts val="1123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94B0-CB79-4F3E-9578-B5A5ECC342FB}" type="slidenum">
              <a:rPr b="1" lang="en-US" sz="1000" spc="-1" strike="noStrike">
                <a:solidFill>
                  <a:srgbClr val="00277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771120" y="6554520"/>
            <a:ext cx="4318200" cy="1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397560" y="6554880"/>
            <a:ext cx="2313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123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800" spc="-1" strike="noStrike">
                <a:solidFill>
                  <a:srgbClr val="002776"/>
                </a:solidFill>
                <a:latin typeface="Arial"/>
              </a:rPr>
              <a:t>© 2009 Deloitte Touche Tohma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title"/>
          </p:nvPr>
        </p:nvSpPr>
        <p:spPr>
          <a:xfrm>
            <a:off x="396720" y="299880"/>
            <a:ext cx="83505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800" spc="-1" strike="noStrike">
                <a:solidFill>
                  <a:srgbClr val="00277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27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87BD-4A45-4084-9DFA-4B9F2768E93F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F030-C595-4900-9AB3-CE0092018EF2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traight Connector 7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5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6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7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0C61-87E2-4B3C-8B88-053E390E7B57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8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9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0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138F-E86F-4DBE-8E27-8214CF1732FF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traight Connector 7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2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C3B9-2BE8-4EFF-B73C-203605E3AA97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DB91-937F-48DA-8EE1-A587E21913ED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lada.hr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14520" y="1773000"/>
            <a:ext cx="7914960" cy="23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hr-HR" sz="2800" spc="-1" strike="noStrike">
                <a:solidFill>
                  <a:srgbClr val="c00000"/>
                </a:solidFill>
                <a:latin typeface="VladaRHSans Bk"/>
                <a:ea typeface="VladaRHSans Bk"/>
              </a:rPr>
              <a:t>NOVI POČETAK </a:t>
            </a:r>
            <a:br>
              <a:rPr sz="1700"/>
            </a:br>
            <a:r>
              <a:rPr b="0" lang="hr-HR" sz="1800" spc="-1" strike="noStrike">
                <a:solidFill>
                  <a:srgbClr val="c00000"/>
                </a:solidFill>
                <a:latin typeface="VladaRHSans Bk"/>
                <a:ea typeface="VladaRHSans Bk"/>
              </a:rPr>
              <a:t>ZA  SOCIJALNO  NAJUGROŽENIJE  GRAĐANE</a:t>
            </a:r>
            <a:br>
              <a:rPr sz="1200"/>
            </a:br>
            <a:br>
              <a:rPr sz="1200"/>
            </a:br>
            <a:r>
              <a:rPr b="0" lang="hr-HR" sz="1400" spc="-1" strike="noStrike">
                <a:solidFill>
                  <a:srgbClr val="c00000"/>
                </a:solidFill>
                <a:latin typeface="VladaRHSans Bk"/>
                <a:ea typeface="VladaRHSans Bk"/>
              </a:rPr>
              <a:t>- PROVEDBA  MJERA  OTPISA  DUGA  I ODGODE OVRHE -</a:t>
            </a:r>
            <a:br>
              <a:rPr sz="1200"/>
            </a:br>
            <a:br>
              <a:rPr sz="800"/>
            </a:b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1371600" y="458640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c00000"/>
                </a:solidFill>
                <a:latin typeface="VladaRHSans Bk"/>
                <a:ea typeface="VladaRHSans Bk"/>
              </a:rPr>
              <a:t>1</a:t>
            </a:r>
            <a:r>
              <a:rPr b="0" lang="en-GB" sz="1600" spc="-1" strike="noStrike">
                <a:solidFill>
                  <a:srgbClr val="c00000"/>
                </a:solidFill>
                <a:latin typeface="VladaRHSans Bk"/>
                <a:ea typeface="VladaRHSans Bk"/>
              </a:rPr>
              <a:t>5.</a:t>
            </a:r>
            <a:r>
              <a:rPr b="0" lang="hr-HR" sz="1600" spc="-1" strike="noStrike">
                <a:solidFill>
                  <a:srgbClr val="c00000"/>
                </a:solidFill>
                <a:latin typeface="VladaRHSans Bk"/>
                <a:ea typeface="VladaRHSans Bk"/>
              </a:rPr>
              <a:t>01.</a:t>
            </a:r>
            <a:r>
              <a:rPr b="0" lang="en-GB" sz="1600" spc="-1" strike="noStrike">
                <a:solidFill>
                  <a:srgbClr val="c00000"/>
                </a:solidFill>
                <a:latin typeface="VladaRHSans Bk"/>
                <a:ea typeface="VladaRHSans Bk"/>
              </a:rPr>
              <a:t>201</a:t>
            </a:r>
            <a:r>
              <a:rPr b="0" lang="hr-HR" sz="1600" spc="-1" strike="noStrike">
                <a:solidFill>
                  <a:srgbClr val="c00000"/>
                </a:solidFill>
                <a:latin typeface="VladaRHSans Bk"/>
                <a:ea typeface="VladaRHSans Bk"/>
              </a:rPr>
              <a:t>5</a:t>
            </a:r>
            <a:r>
              <a:rPr b="0" lang="en-GB" sz="1600" spc="-1" strike="noStrike">
                <a:solidFill>
                  <a:srgbClr val="c00000"/>
                </a:solidFill>
                <a:latin typeface="VladaRHSans Bk"/>
                <a:ea typeface="VladaRHSans B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7" descr="vl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92800" y="-3440160"/>
            <a:ext cx="10954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f497d"/>
                </a:solidFill>
                <a:latin typeface="VladaRHSans Bk"/>
              </a:rPr>
              <a:t>STATISTIČKI PRIKAZ 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804" name="Dijagram 4" descr=""/>
          <p:cNvPicPr/>
          <p:nvPr/>
        </p:nvPicPr>
        <p:blipFill>
          <a:blip r:embed="rId1"/>
          <a:stretch/>
        </p:blipFill>
        <p:spPr>
          <a:xfrm>
            <a:off x="171360" y="1463760"/>
            <a:ext cx="8869320" cy="499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5" name=""/>
          <p:cNvGraphicFramePr/>
          <p:nvPr/>
        </p:nvGraphicFramePr>
        <p:xfrm>
          <a:off x="2124000" y="2565360"/>
          <a:ext cx="6696000" cy="250344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5080"/>
                <a:gridCol w="1672920"/>
              </a:tblGrid>
              <a:tr h="277920"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Vjerovn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Iznos du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Iznos kam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Broj duž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406440"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Ban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45.058.369,62 k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21.665.218,88 k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12.4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Teleoperate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91.855.533,19 k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56.461.572,26 k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31.5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Središnja država i jedinice lokalne i područne samoup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23.517.842,84 k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11.280.943,09 k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13.4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Ostale skupine vjerov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39.186.419,87 k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18.881.751,14 k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0" rIns="7920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17.9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806" name="Picture 36" descr=""/>
          <p:cNvPicPr/>
          <p:nvPr/>
        </p:nvPicPr>
        <p:blipFill>
          <a:blip r:embed="rId2"/>
          <a:stretch/>
        </p:blipFill>
        <p:spPr>
          <a:xfrm>
            <a:off x="7070760" y="404640"/>
            <a:ext cx="20732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97000" y="126792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f497d"/>
                </a:solidFill>
                <a:latin typeface="VladaRHSans Bk"/>
              </a:rPr>
              <a:t>POZIV VJEROVNICIMA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108000" y="1773000"/>
            <a:ext cx="887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Mjere će biti uspješnije pristupanjem što većeg broja vjerov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Vlada Republike Hrvatske poziva i druge vjerovnike </a:t>
            </a:r>
            <a:r>
              <a:rPr b="0" lang="hr-HR" sz="20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da pristupe ovoj mjeri te da se pridruže pristupnicima koji su pokazali društveno odgovorno posl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Ostali vjerovnici mogu pristupiti ovoj mjeri najkasnije </a:t>
            </a:r>
            <a:r>
              <a:rPr b="1" lang="hr-HR" sz="20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do 31. svibnja 2015. g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5" descr=""/>
          <p:cNvPicPr/>
          <p:nvPr/>
        </p:nvPicPr>
        <p:blipFill>
          <a:blip r:embed="rId1"/>
          <a:stretch/>
        </p:blipFill>
        <p:spPr>
          <a:xfrm>
            <a:off x="212760" y="6237360"/>
            <a:ext cx="8718480" cy="126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5" descr=""/>
          <p:cNvPicPr/>
          <p:nvPr/>
        </p:nvPicPr>
        <p:blipFill>
          <a:blip r:embed="rId2"/>
          <a:stretch/>
        </p:blipFill>
        <p:spPr>
          <a:xfrm>
            <a:off x="241200" y="1916280"/>
            <a:ext cx="8718480" cy="126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6" descr=""/>
          <p:cNvPicPr/>
          <p:nvPr/>
        </p:nvPicPr>
        <p:blipFill>
          <a:blip r:embed="rId3"/>
          <a:stretch/>
        </p:blipFill>
        <p:spPr>
          <a:xfrm>
            <a:off x="7054920" y="404640"/>
            <a:ext cx="20732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f497d"/>
                </a:solidFill>
                <a:latin typeface="VladaRHSans Bk"/>
              </a:rPr>
              <a:t>KLJUČNE VREMENSKE ODREDNICE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813" name="Rezervirano mjesto sadržaja 2" descr=""/>
          <p:cNvPicPr/>
          <p:nvPr/>
        </p:nvPicPr>
        <p:blipFill>
          <a:blip r:embed="rId1"/>
          <a:stretch/>
        </p:blipFill>
        <p:spPr>
          <a:xfrm>
            <a:off x="96840" y="1762200"/>
            <a:ext cx="8894880" cy="47973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5" descr=""/>
          <p:cNvPicPr/>
          <p:nvPr/>
        </p:nvPicPr>
        <p:blipFill>
          <a:blip r:embed="rId2"/>
          <a:stretch/>
        </p:blipFill>
        <p:spPr>
          <a:xfrm>
            <a:off x="212760" y="6597720"/>
            <a:ext cx="8718480" cy="126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5" descr=""/>
          <p:cNvPicPr/>
          <p:nvPr/>
        </p:nvPicPr>
        <p:blipFill>
          <a:blip r:embed="rId3"/>
          <a:stretch/>
        </p:blipFill>
        <p:spPr>
          <a:xfrm>
            <a:off x="108000" y="1628640"/>
            <a:ext cx="8718480" cy="129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6" descr=""/>
          <p:cNvPicPr/>
          <p:nvPr/>
        </p:nvPicPr>
        <p:blipFill>
          <a:blip r:embed="rId4"/>
          <a:stretch/>
        </p:blipFill>
        <p:spPr>
          <a:xfrm>
            <a:off x="7054920" y="404640"/>
            <a:ext cx="20732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VladaRHSans Bk"/>
                <a:ea typeface="VladaRHSans Bk"/>
              </a:rPr>
              <a:t>HVALA NA POZORNOST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avni poveznik 2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VladaRHSans Bk"/>
                <a:ea typeface="VladaRHSans Bk"/>
              </a:rPr>
              <a:t>JEDNOKRATNA  MJERA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78920" y="1773000"/>
            <a:ext cx="8712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1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15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VladaRHSans Bk"/>
                <a:ea typeface="VladaRHSans Bk"/>
              </a:rPr>
              <a:t>Vlada Republike Hrvatske zajedno s vjerovnicima ovim mjerama želi pružiti </a:t>
            </a:r>
            <a:r>
              <a:rPr b="1" lang="hr-HR" sz="1800" spc="-1" strike="noStrike">
                <a:solidFill>
                  <a:srgbClr val="002060"/>
                </a:solidFill>
                <a:latin typeface="VladaRHSans Bk"/>
                <a:ea typeface="VladaRHSans Bk"/>
              </a:rPr>
              <a:t>novi početak financijski isključenim građanima</a:t>
            </a:r>
            <a:r>
              <a:rPr b="0" lang="hr-HR" sz="1800" spc="-1" strike="noStrike">
                <a:solidFill>
                  <a:srgbClr val="002060"/>
                </a:solidFill>
                <a:latin typeface="VladaRHSans Bk"/>
                <a:ea typeface="VladaRHSans Bk"/>
              </a:rPr>
              <a:t> i osigurati im uvjete za izlazak iz prezaduž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15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VladaRHSans Bk"/>
                <a:ea typeface="VladaRHSans Bk"/>
              </a:rPr>
              <a:t>Vlada Republike Hrvatske i Vjerovnici koji Sporazumu pristupaju dobrovoljno uspostavljaju privremene </a:t>
            </a:r>
            <a:r>
              <a:rPr b="1" lang="hr-HR" sz="1800" spc="-1" strike="noStrike">
                <a:solidFill>
                  <a:srgbClr val="002060"/>
                </a:solidFill>
                <a:latin typeface="VladaRHSans Bk"/>
                <a:ea typeface="VladaRHSans Bk"/>
              </a:rPr>
              <a:t>jednokratne mjere </a:t>
            </a:r>
            <a:r>
              <a:rPr b="0" lang="hr-HR" sz="1800" spc="-1" strike="noStrike">
                <a:solidFill>
                  <a:srgbClr val="002060"/>
                </a:solidFill>
                <a:latin typeface="VladaRHSans Bk"/>
                <a:ea typeface="VladaRHSans Bk"/>
              </a:rPr>
              <a:t>koje će biti na snazi </a:t>
            </a:r>
            <a:r>
              <a:rPr b="1" lang="hr-HR" sz="1800" spc="-1" strike="noStrike">
                <a:solidFill>
                  <a:srgbClr val="002060"/>
                </a:solidFill>
                <a:latin typeface="VladaRHSans Bk"/>
                <a:ea typeface="VladaRHSans Bk"/>
              </a:rPr>
              <a:t>do 30. lipnja 2015. </a:t>
            </a:r>
            <a:r>
              <a:rPr b="0" lang="hr-HR" sz="1800" spc="-1" strike="noStrike">
                <a:solidFill>
                  <a:srgbClr val="002060"/>
                </a:solidFill>
                <a:latin typeface="VladaRHSans Bk"/>
                <a:ea typeface="VladaRHSans Bk"/>
              </a:rPr>
              <a:t>god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15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VladaRHSans Bk"/>
                <a:ea typeface="VladaRHSans Bk"/>
              </a:rPr>
              <a:t>Mjere obuhvaćaju dio prezaduženih građana koji su ovršenici u postupcima prisilne naplate tražbina male vrijednosti na novčanim sredstv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1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1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1"/>
          <a:stretch/>
        </p:blipFill>
        <p:spPr>
          <a:xfrm>
            <a:off x="266760" y="6308640"/>
            <a:ext cx="8718480" cy="12960"/>
          </a:xfrm>
          <a:prstGeom prst="rect">
            <a:avLst/>
          </a:prstGeom>
          <a:ln w="0">
            <a:noFill/>
          </a:ln>
        </p:spPr>
      </p:pic>
      <p:sp>
        <p:nvSpPr>
          <p:cNvPr id="769" name="TekstniOkvir 2"/>
          <p:cNvSpPr/>
          <p:nvPr/>
        </p:nvSpPr>
        <p:spPr>
          <a:xfrm>
            <a:off x="6980400" y="404640"/>
            <a:ext cx="203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VladaRHSans Bk"/>
                <a:ea typeface="Arial"/>
              </a:rPr>
              <a:t>NOVI POČET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2"/>
          <a:stretch/>
        </p:blipFill>
        <p:spPr>
          <a:xfrm>
            <a:off x="266760" y="1700280"/>
            <a:ext cx="8718480" cy="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11200" y="90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f497d"/>
                </a:solidFill>
                <a:latin typeface="VladaRHSans Bk"/>
              </a:rPr>
              <a:t>SPORAZUM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270000" y="1483920"/>
            <a:ext cx="8712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15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 u="sng">
                <a:solidFill>
                  <a:srgbClr val="002060"/>
                </a:solidFill>
                <a:uFillTx/>
                <a:latin typeface="VladaRHSans Bk"/>
              </a:rPr>
              <a:t>Vlada RH poziva vjerovnike na potpisivanje sporazu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just">
              <a:lnSpc>
                <a:spcPct val="115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2060"/>
                </a:solidFill>
                <a:latin typeface="VladaRHSans Bk"/>
              </a:rPr>
              <a:t>Banke</a:t>
            </a:r>
            <a:r>
              <a:rPr b="0" lang="hr-HR" sz="1400" spc="-1" strike="noStrike">
                <a:solidFill>
                  <a:srgbClr val="002060"/>
                </a:solidFill>
                <a:latin typeface="VladaRHSans Bk"/>
              </a:rPr>
              <a:t> (Erste&amp;Steierm</a:t>
            </a:r>
            <a:r>
              <a:rPr b="0" lang="el-GR" sz="1400" spc="-1" strike="noStrike">
                <a:solidFill>
                  <a:srgbClr val="002060"/>
                </a:solidFill>
                <a:latin typeface="VladaRHSans Bk"/>
              </a:rPr>
              <a:t>ἅ</a:t>
            </a:r>
            <a:r>
              <a:rPr b="0" lang="hr-HR" sz="1400" spc="-1" strike="noStrike">
                <a:solidFill>
                  <a:srgbClr val="002060"/>
                </a:solidFill>
                <a:latin typeface="VladaRHSans Bk"/>
              </a:rPr>
              <a:t>rkische Bank d.d., Hypo Alpe-Adria Bank d.d., Privredna Banka Zagreb d.d., Raiffeisenbank Austria d.d., Societe Generale-Splitska Banka d.d., Zagrebačka banka d.d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just">
              <a:lnSpc>
                <a:spcPct val="115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2060"/>
                </a:solidFill>
                <a:latin typeface="VladaRHSans Bk"/>
              </a:rPr>
              <a:t>Teleoperateri</a:t>
            </a:r>
            <a:r>
              <a:rPr b="0" lang="hr-HR" sz="1400" spc="-1" strike="noStrike">
                <a:solidFill>
                  <a:srgbClr val="002060"/>
                </a:solidFill>
                <a:latin typeface="VladaRHSans Bk"/>
              </a:rPr>
              <a:t> (Hrvatski telekom d.d., Tele 2 d.o.o., VIP net d.o.o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just">
              <a:lnSpc>
                <a:spcPct val="115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2060"/>
                </a:solidFill>
                <a:latin typeface="VladaRHSans Bk"/>
              </a:rPr>
              <a:t>Državna poduzeća</a:t>
            </a:r>
            <a:r>
              <a:rPr b="0" lang="hr-HR" sz="1400" spc="-1" strike="noStrike">
                <a:solidFill>
                  <a:srgbClr val="002060"/>
                </a:solidFill>
                <a:latin typeface="VladaRHSans Bk"/>
              </a:rPr>
              <a:t> (Hrvatska radiotelevizija, Hrvatska poštanska banka d.d., HP - Hrvatska pošta d.d., Hrvatska elektroprivreda d.d., Hrvatska banka za obnovu i razvitak, Hrvatske šume d.o.o., HŽ infrastruktura d.o.o., Državna agencija za osiguranje štednih uloga i sanaciju banaka, Fond za naknadu oduzete imovine, Hrvatsko društvo skladatelja ZAM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just">
              <a:lnSpc>
                <a:spcPct val="115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2060"/>
                </a:solidFill>
                <a:latin typeface="VladaRHSans Bk"/>
              </a:rPr>
              <a:t>Gradovi</a:t>
            </a:r>
            <a:r>
              <a:rPr b="0" lang="hr-HR" sz="1400" spc="-1" strike="noStrike">
                <a:solidFill>
                  <a:srgbClr val="002060"/>
                </a:solidFill>
                <a:latin typeface="VladaRHSans Bk"/>
              </a:rPr>
              <a:t> (Zagreb, Rijeka, Osijek , Spl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just">
              <a:lnSpc>
                <a:spcPct val="11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15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 u="sng">
                <a:solidFill>
                  <a:srgbClr val="002060"/>
                </a:solidFill>
                <a:uFillTx/>
                <a:latin typeface="VladaRHSans Bk"/>
              </a:rPr>
              <a:t>Uključena tijela</a:t>
            </a:r>
            <a:r>
              <a:rPr b="0" lang="hr-HR" sz="1400" spc="-1" strike="noStrike">
                <a:solidFill>
                  <a:srgbClr val="002060"/>
                </a:solidFill>
                <a:latin typeface="VladaRHSans B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15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2060"/>
                </a:solidFill>
                <a:latin typeface="VladaRHSans Bk"/>
              </a:rPr>
              <a:t>Ministarstvo socijalne politike i mladih</a:t>
            </a:r>
            <a:r>
              <a:rPr b="0" lang="hr-HR" sz="1400" spc="-1" strike="noStrike">
                <a:solidFill>
                  <a:srgbClr val="002060"/>
                </a:solidFill>
                <a:latin typeface="VladaRHSans Bk"/>
              </a:rPr>
              <a:t> – predlagatelj Sporazuma i Protokola za provedbu Sporazu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just">
              <a:lnSpc>
                <a:spcPct val="115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2060"/>
                </a:solidFill>
                <a:latin typeface="VladaRHSans Bk"/>
              </a:rPr>
              <a:t>Centri za socijalnu skrb – zaprimanje i obrada pristiglih zahtjeva u 5 ovlaštenih centara (</a:t>
            </a:r>
            <a:r>
              <a:rPr b="0" lang="nn-NO" sz="1400" spc="-1" strike="noStrike">
                <a:solidFill>
                  <a:srgbClr val="002060"/>
                </a:solidFill>
                <a:latin typeface="VladaRHSans Bk"/>
              </a:rPr>
              <a:t>Zagreb, Split, Rijeka, Osijek i Varaždin</a:t>
            </a:r>
            <a:r>
              <a:rPr b="0" lang="hr-HR" sz="1400" spc="-1" strike="noStrike">
                <a:solidFill>
                  <a:srgbClr val="002060"/>
                </a:solidFill>
                <a:latin typeface="VladaRHSans Bk"/>
              </a:rPr>
              <a:t>) uz administrativnu podršku peteročlanih timova (predstavnici CZSS, FINA-e, Porezne uprava) koji će se baviti isključivo rješavanjem pristiglih zahtjeva, čime će se spriječiti dodatno opterećenje sustava socijalne skrb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15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2060"/>
                </a:solidFill>
                <a:latin typeface="VladaRHSans Bk"/>
              </a:rPr>
              <a:t>Ministarstvo financija </a:t>
            </a:r>
            <a:r>
              <a:rPr b="0" lang="hr-HR" sz="1400" spc="-1" strike="noStrike">
                <a:solidFill>
                  <a:srgbClr val="002060"/>
                </a:solidFill>
                <a:latin typeface="VladaRHSans Bk"/>
              </a:rPr>
              <a:t>– predlagatelj Odluke o posebnim aktivnostima za provedbu Sporazu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15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2060"/>
                </a:solidFill>
                <a:latin typeface="VladaRHSans Bk"/>
              </a:rPr>
              <a:t>FINA – </a:t>
            </a:r>
            <a:r>
              <a:rPr b="0" lang="hr-HR" sz="1400" spc="-1" strike="noStrike">
                <a:solidFill>
                  <a:srgbClr val="002060"/>
                </a:solidFill>
                <a:latin typeface="VladaRHSans Bk"/>
              </a:rPr>
              <a:t>vođenje Registra otpisa du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15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2060"/>
                </a:solidFill>
                <a:latin typeface="VladaRHSans Bk"/>
              </a:rPr>
              <a:t>Ministarstvo pravosuđ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15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5" descr=""/>
          <p:cNvPicPr/>
          <p:nvPr/>
        </p:nvPicPr>
        <p:blipFill>
          <a:blip r:embed="rId1"/>
          <a:stretch/>
        </p:blipFill>
        <p:spPr>
          <a:xfrm>
            <a:off x="270000" y="6669000"/>
            <a:ext cx="8718480" cy="1296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6" descr=""/>
          <p:cNvPicPr/>
          <p:nvPr/>
        </p:nvPicPr>
        <p:blipFill>
          <a:blip r:embed="rId2"/>
          <a:stretch/>
        </p:blipFill>
        <p:spPr>
          <a:xfrm>
            <a:off x="7104240" y="404640"/>
            <a:ext cx="2066760" cy="43344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718480" cy="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PRIHVATLJIVI  DUŽNICI - KRITERIJI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96920" y="1386000"/>
          <a:ext cx="8785080" cy="5335560"/>
        </p:xfrm>
        <a:graphic>
          <a:graphicData uri="http://schemas.openxmlformats.org/drawingml/2006/table">
            <a:tbl>
              <a:tblPr/>
              <a:tblGrid>
                <a:gridCol w="1239840"/>
                <a:gridCol w="7545240"/>
              </a:tblGrid>
              <a:tr h="33516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 </a:t>
                      </a:r>
                      <a:r>
                        <a:rPr b="1" lang="hr-HR" sz="16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Fizičke osobe, državljani RH, koji ispunjavaju jedan od sljedećih kriterij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 u="sng">
                          <a:solidFill>
                            <a:srgbClr val="002060"/>
                          </a:solidFill>
                          <a:uFillTx/>
                          <a:latin typeface="VladaRHSans Bk"/>
                        </a:rPr>
                        <a:t>Kriterij 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Korisnici novčanih naknada sustava socijalne skrbi: </a:t>
                      </a: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Zajamčena minimalna naknada (ZMN), Pomoć za uzdržavanje (PZU), osobna invalidnin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U prva dva mjeseca primjene (od 02. veljače do 02. travnja 2015.) isključivo će dužnici prema Kriteriju A imati pravo pristupiti mjer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 u="sng">
                          <a:solidFill>
                            <a:srgbClr val="002060"/>
                          </a:solidFill>
                          <a:uFillTx/>
                          <a:latin typeface="VladaRHSans Bk"/>
                        </a:rPr>
                        <a:t>Kriterij B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Građani čija mjesečna primanja u posljednja 3 mjeseca do podnošenja zahtjeva ne prelaze 2.500,00 kuna </a:t>
                      </a: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za samca odnosno 1.250,00 kuna po članu kućanstva </a:t>
                      </a: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a koji</a:t>
                      </a: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  <a:ea typeface="Arial"/>
                        </a:rPr>
                        <a:t>Nemaju u vlasništvu drugu nekretninu osim one u kojoj ž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  <a:ea typeface="Arial"/>
                        </a:rPr>
                        <a:t>Nemaju u vlasništvu drugu imovinu koju bi mogle koristiti ili prodati bez ugrožavanja osnovnih životnih potre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  <a:ea typeface="Arial"/>
                        </a:rPr>
                        <a:t>Nemaju oročena sredstva, ugovor o stambenoj štednji i/ili depozit u kreditnoj uniji (osim onih građana čija su navedena sredstva ovršena u cijelosti, ali su i dalje blokirani jer je iznos duga bio veći od iznosa koji su bili raspoloživi na računima za navedene svrh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Tijekom preostala 3 mjeseca (od 03. travnja do 30. lipnja 2015.) dužnici prema Kriteriju B imaju pravo pristupiti mjer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78" name="Picture 16" descr=""/>
          <p:cNvPicPr/>
          <p:nvPr/>
        </p:nvPicPr>
        <p:blipFill>
          <a:blip r:embed="rId1"/>
          <a:stretch/>
        </p:blipFill>
        <p:spPr>
          <a:xfrm>
            <a:off x="7072200" y="404640"/>
            <a:ext cx="2067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f497d"/>
                </a:solidFill>
                <a:latin typeface="VladaRHSans Bk"/>
              </a:rPr>
              <a:t>PRIHVATLJIVI  DUGOVI - KRITERIJI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108000" y="1484280"/>
            <a:ext cx="887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Dug građanina kojemu ukupan iznos duga iznosi do najviše 35.000 kuna </a:t>
            </a:r>
            <a:r>
              <a:rPr b="0" lang="hr-HR" sz="16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kumulirano po svim vjerovnicima i evidentirano u FINA-i na dan </a:t>
            </a:r>
            <a:r>
              <a:rPr b="0" lang="en-GB" sz="16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30. rujn</a:t>
            </a:r>
            <a:r>
              <a:rPr b="0" lang="hr-HR" sz="16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a</a:t>
            </a:r>
            <a:r>
              <a:rPr b="0" lang="en-GB" sz="16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 </a:t>
            </a:r>
            <a:r>
              <a:rPr b="0" lang="hr-HR" sz="16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2014. god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just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od toga se najviše </a:t>
            </a:r>
            <a:r>
              <a:rPr b="1" lang="hr-HR" sz="16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25.000 kn</a:t>
            </a:r>
            <a:r>
              <a:rPr b="0" lang="hr-HR" sz="16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 odnosi na dug prema vjerovnicima skupine A i istovremeno najviše </a:t>
            </a:r>
            <a:r>
              <a:rPr b="1" lang="hr-HR" sz="16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10.000 kn</a:t>
            </a:r>
            <a:r>
              <a:rPr b="0" lang="hr-HR" sz="16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 se odnosi na dug prema ostalim vjerovnicima (vjerovnicima skupine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just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Dug građanina kojemu je </a:t>
            </a:r>
            <a:r>
              <a:rPr b="1" lang="hr-HR" sz="16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na dan 30. rujna 2014.</a:t>
            </a:r>
            <a:r>
              <a:rPr b="0" lang="hr-HR" sz="16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 </a:t>
            </a:r>
            <a:r>
              <a:rPr b="1" lang="hr-HR" sz="16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račun blokiran dulje od 360 da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Isključivo dužnik /ovršenik podnosi zahtjev koji se treba odobriti unutar 30 d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431640" y="3357720"/>
          <a:ext cx="8280720" cy="2635200"/>
        </p:xfrm>
        <a:graphic>
          <a:graphicData uri="http://schemas.openxmlformats.org/drawingml/2006/table">
            <a:tbl>
              <a:tblPr/>
              <a:tblGrid>
                <a:gridCol w="3227400"/>
                <a:gridCol w="5053320"/>
              </a:tblGrid>
              <a:tr h="33480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rihvatljivi vjerovn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 u="sng">
                          <a:solidFill>
                            <a:srgbClr val="002060"/>
                          </a:solidFill>
                          <a:uFillTx/>
                          <a:latin typeface="VladaRHSans Bk"/>
                        </a:rPr>
                        <a:t>Vjerovnici skupine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T</a:t>
                      </a:r>
                      <a:r>
                        <a:rPr b="0" lang="vi-VN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rgovačka društva i druge pravne osobe od strateškog interesa za Republiku Hrvatsku, kao i trgovačka društva od posebnog interesa u kojima Republika Hrvatska ima većinski udio, te trgovačka društva koja je osnovala Republika Hrvatska i javne ustanove koje je osnovala Republika Hrvatsk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 u="sng">
                          <a:solidFill>
                            <a:srgbClr val="002060"/>
                          </a:solidFill>
                          <a:uFillTx/>
                          <a:latin typeface="VladaRHSans Bk"/>
                        </a:rPr>
                        <a:t>Vjerovnici skupine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2060"/>
                          </a:solidFill>
                          <a:latin typeface="VladaRHSans Bk"/>
                        </a:rPr>
                        <a:t>Sve pravne osobe osim onih koji pripadaju u skupinu A vjerovnika, slobodna zanimanja te osobe koje obavljaju samostalnu djelatnost obr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82" name="Picture 17" descr=""/>
          <p:cNvPicPr/>
          <p:nvPr/>
        </p:nvPicPr>
        <p:blipFill>
          <a:blip r:embed="rId1"/>
          <a:stretch/>
        </p:blipFill>
        <p:spPr>
          <a:xfrm>
            <a:off x="212760" y="6597720"/>
            <a:ext cx="8718480" cy="1260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8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718480" cy="190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9" descr=""/>
          <p:cNvPicPr/>
          <p:nvPr/>
        </p:nvPicPr>
        <p:blipFill>
          <a:blip r:embed="rId3"/>
          <a:stretch/>
        </p:blipFill>
        <p:spPr>
          <a:xfrm>
            <a:off x="7077240" y="404640"/>
            <a:ext cx="20667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Dijagram 2" descr=""/>
          <p:cNvPicPr/>
          <p:nvPr/>
        </p:nvPicPr>
        <p:blipFill>
          <a:blip r:embed="rId1"/>
          <a:stretch/>
        </p:blipFill>
        <p:spPr>
          <a:xfrm>
            <a:off x="55440" y="1249200"/>
            <a:ext cx="8875800" cy="535320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1951200" y="6597720"/>
            <a:ext cx="7029360" cy="237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2" descr=""/>
          <p:cNvPicPr/>
          <p:nvPr/>
        </p:nvPicPr>
        <p:blipFill>
          <a:blip r:embed="rId3"/>
          <a:stretch/>
        </p:blipFill>
        <p:spPr>
          <a:xfrm>
            <a:off x="1892160" y="6093000"/>
            <a:ext cx="7029720" cy="237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5" descr=""/>
          <p:cNvPicPr/>
          <p:nvPr/>
        </p:nvPicPr>
        <p:blipFill>
          <a:blip r:embed="rId4"/>
          <a:stretch/>
        </p:blipFill>
        <p:spPr>
          <a:xfrm>
            <a:off x="7077240" y="404640"/>
            <a:ext cx="20667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Dijagram 2" descr=""/>
          <p:cNvPicPr/>
          <p:nvPr/>
        </p:nvPicPr>
        <p:blipFill>
          <a:blip r:embed="rId1"/>
          <a:stretch/>
        </p:blipFill>
        <p:spPr>
          <a:xfrm>
            <a:off x="55440" y="1249200"/>
            <a:ext cx="8875800" cy="53532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1920960" y="6237360"/>
            <a:ext cx="7029360" cy="237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4" descr=""/>
          <p:cNvPicPr/>
          <p:nvPr/>
        </p:nvPicPr>
        <p:blipFill>
          <a:blip r:embed="rId3"/>
          <a:stretch/>
        </p:blipFill>
        <p:spPr>
          <a:xfrm>
            <a:off x="7043760" y="404640"/>
            <a:ext cx="2066760" cy="4334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5" descr=""/>
          <p:cNvPicPr/>
          <p:nvPr/>
        </p:nvPicPr>
        <p:blipFill>
          <a:blip r:embed="rId4"/>
          <a:stretch/>
        </p:blipFill>
        <p:spPr>
          <a:xfrm>
            <a:off x="1917720" y="6669000"/>
            <a:ext cx="702936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85640" y="1341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1f497d"/>
                </a:solidFill>
                <a:latin typeface="VladaRHSans Bk"/>
              </a:rPr>
              <a:t>ODGODA OVRHE I OTPIS DUGA PREMA TELEOPERATERIMA</a:t>
            </a:r>
            <a:endParaRPr b="0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20600" y="1773000"/>
            <a:ext cx="887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Teleoperateri će </a:t>
            </a:r>
            <a:r>
              <a:rPr b="1" lang="hr-HR" sz="20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otpisati dugove </a:t>
            </a:r>
            <a:r>
              <a:rPr b="0" lang="hr-HR" sz="20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dužnicima koji ispunjavaju </a:t>
            </a:r>
            <a:r>
              <a:rPr b="1" lang="hr-HR" sz="20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kriterij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Teleoperateri će </a:t>
            </a:r>
            <a:r>
              <a:rPr b="1" lang="hr-HR" sz="20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odgoditi ovrhu na godinu dana</a:t>
            </a:r>
            <a:r>
              <a:rPr b="0" lang="hr-HR" sz="20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 dužnicima koji ispunjavaju </a:t>
            </a:r>
            <a:r>
              <a:rPr b="1" lang="hr-HR" sz="20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kriterij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Ukoliko za vrijeme odgode ovrhe dužnik podmiri svoj dug otpisat će mu se zatezne ka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5" descr=""/>
          <p:cNvPicPr/>
          <p:nvPr/>
        </p:nvPicPr>
        <p:blipFill>
          <a:blip r:embed="rId1"/>
          <a:stretch/>
        </p:blipFill>
        <p:spPr>
          <a:xfrm>
            <a:off x="241200" y="6237360"/>
            <a:ext cx="8718480" cy="126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6" descr=""/>
          <p:cNvPicPr/>
          <p:nvPr/>
        </p:nvPicPr>
        <p:blipFill>
          <a:blip r:embed="rId2"/>
          <a:stretch/>
        </p:blipFill>
        <p:spPr>
          <a:xfrm>
            <a:off x="212760" y="1916280"/>
            <a:ext cx="8718480" cy="126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7" descr=""/>
          <p:cNvPicPr/>
          <p:nvPr/>
        </p:nvPicPr>
        <p:blipFill>
          <a:blip r:embed="rId3"/>
          <a:stretch/>
        </p:blipFill>
        <p:spPr>
          <a:xfrm>
            <a:off x="7039080" y="404640"/>
            <a:ext cx="20732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46040" y="98064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f497d"/>
                </a:solidFill>
                <a:latin typeface="VladaRHSans Bk"/>
              </a:rPr>
              <a:t>EVIDENCIJA I NADZOR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08000" y="1484280"/>
            <a:ext cx="887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Uspostavlja se Registar otpisa duga – jedinstvena elektronička baza podataka o podnositeljima Zahtjeva za otpis duga </a:t>
            </a:r>
            <a:r>
              <a:rPr b="0" lang="vi-VN" sz="1800" spc="-1" strike="noStrike">
                <a:solidFill>
                  <a:srgbClr val="1f497d"/>
                </a:solidFill>
                <a:latin typeface="Calibri"/>
                <a:ea typeface="VladaRHSans Bk"/>
              </a:rPr>
              <a:t>koju vodi FINA</a:t>
            </a:r>
            <a:r>
              <a:rPr b="0" lang="hr-HR" sz="18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Dužnik kojem je otpisan dug ostaje evidentiran u Registru otpisa duga 3 godine </a:t>
            </a:r>
            <a:r>
              <a:rPr b="0" lang="hr-HR" sz="18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od dana otpisa duga odnosno </a:t>
            </a:r>
            <a:r>
              <a:rPr b="1" lang="hr-HR" sz="18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1 godinu u slučaju odgode ovr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Tijekom trajanja evidencije i nadzora podnositelj zahtjeva dužan je prijaviti FINA-i ako dođe u posjed imovine (igrama na sreću, nasljeđivanjem ili darovanjem) vrijednosti veće od 100.000 k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U istom razdoblju vjerovnici koji su otpisali dug imaju pravo uskratiti uslugu građaninu osim ukoliko se ne radi o usluzi čijim bi se uskraćivanjem dovelo u pitanje zadovoljavanje osnovnih životnih potr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Po isteku </a:t>
            </a:r>
            <a:r>
              <a:rPr b="0" lang="hr-HR" sz="18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3 godine ili 1 godine </a:t>
            </a:r>
            <a:r>
              <a:rPr b="1" lang="hr-HR" sz="1800" spc="-1" strike="noStrike">
                <a:solidFill>
                  <a:srgbClr val="1f497d"/>
                </a:solidFill>
                <a:latin typeface="VladaRHSans Bk"/>
                <a:ea typeface="VladaRHSans Bk"/>
              </a:rPr>
              <a:t>podaci o podnositelju zahtjeva se trajno brišu iz Registra otpisa dug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5" descr=""/>
          <p:cNvPicPr/>
          <p:nvPr/>
        </p:nvPicPr>
        <p:blipFill>
          <a:blip r:embed="rId1"/>
          <a:stretch/>
        </p:blipFill>
        <p:spPr>
          <a:xfrm>
            <a:off x="198360" y="6453360"/>
            <a:ext cx="8718480" cy="1260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6" descr=""/>
          <p:cNvPicPr/>
          <p:nvPr/>
        </p:nvPicPr>
        <p:blipFill>
          <a:blip r:embed="rId2"/>
          <a:stretch/>
        </p:blipFill>
        <p:spPr>
          <a:xfrm>
            <a:off x="225360" y="1484280"/>
            <a:ext cx="8718480" cy="1260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7" descr=""/>
          <p:cNvPicPr/>
          <p:nvPr/>
        </p:nvPicPr>
        <p:blipFill>
          <a:blip r:embed="rId3"/>
          <a:stretch/>
        </p:blipFill>
        <p:spPr>
          <a:xfrm>
            <a:off x="7070760" y="404640"/>
            <a:ext cx="20732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08:31:07Z</dcterms:created>
  <dc:creator>Damir Cimer</dc:creator>
  <dc:description/>
  <dc:language>en-US</dc:language>
  <cp:lastModifiedBy>Jelena Đuraš Gleđ</cp:lastModifiedBy>
  <cp:lastPrinted>2015-01-15T08:31:12Z</cp:lastPrinted>
  <dcterms:modified xsi:type="dcterms:W3CDTF">2015-01-15T14:40:34Z</dcterms:modified>
  <cp:revision>158</cp:revision>
  <dc:subject/>
  <dc:title>MODEL REGULIRANJA DUGOVA   ‘’MALE VRIJEDNOSTI’’   - pregled modela I OTVORENA PITANJA -</dc:title>
</cp:coreProperties>
</file>